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B963-F748-4795-AC79-FF85A5F17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5D7A-B1BA-4C55-9BEF-CF0A4058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EA60-128C-4AA5-B642-696178705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40EF-AD95-44A8-A5D2-478D435EA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B403-A1DA-427C-A5AC-2408E04C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505E-ECC4-46E3-9085-6A929AF6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242B-0F70-4441-89F1-90988E26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4827-B42C-407E-AED1-4EA0DFE1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555B-2901-486F-AEC4-8CF698FE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6444-F081-4BB4-9A00-00E5F9CC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721C-2B2D-48C6-A9E4-90FDC19B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AF7B-9827-4B22-A9C9-AB881D70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DA06-E713-4690-B6B6-D079FF09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81AC-D494-4591-A080-B4C06934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DFC5-C133-4205-A697-CECD914C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B223-E48A-4526-9C45-CADAB08EF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9E69-FA52-45F1-B2A0-4AFF44221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EA1C-D1C6-4B45-B683-4E37BBD3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A152-2DEE-4F1E-8BEA-B7A63B17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4AE1-4666-4971-B822-4D356C09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3A8F-C4C5-46C3-B72D-A8BBFB7C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7D06-986A-438F-BA22-9DCAFDD8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1735-AFCE-4DD4-9736-C620EFA7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A14F-6766-4C16-B835-A4689FC0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AE85-89BD-41B6-B1F7-8361BCD2465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E889-73AD-444B-9EED-CBC7D798AEC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ourse 2 December 5, 2011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arm-up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) 12.75 + 3.4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)11n =             when n=8.3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) 28 – 21.823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3821040" y="1251000"/>
            <a:ext cx="519120" cy="276120"/>
          </a:xfrm>
          <a:custGeom>
            <a:avLst/>
            <a:gdLst/>
            <a:ahLst/>
            <a:rect l="l" t="t" r="r" b="b"/>
            <a:pathLst>
              <a:path w="1440" h="770">
                <a:moveTo>
                  <a:pt x="11013" y="3473"/>
                </a:moveTo>
                <a:cubicBezTo>
                  <a:pt x="10997" y="3562"/>
                  <a:pt x="10976" y="3656"/>
                  <a:pt x="10964" y="3746"/>
                </a:cubicBezTo>
              </a:path>
              <a:path w="1440" h="770">
                <a:moveTo>
                  <a:pt x="12055" y="3572"/>
                </a:moveTo>
                <a:cubicBezTo>
                  <a:pt x="12055" y="3580"/>
                  <a:pt x="12055" y="3589"/>
                  <a:pt x="12055" y="3597"/>
                </a:cubicBezTo>
              </a:path>
              <a:path w="1440" h="770">
                <a:moveTo>
                  <a:pt x="12055" y="3597"/>
                </a:moveTo>
                <a:lnTo>
                  <a:pt x="12055" y="3597"/>
                </a:lnTo>
              </a:path>
              <a:path w="1440" h="770">
                <a:moveTo>
                  <a:pt x="10616" y="4242"/>
                </a:moveTo>
                <a:cubicBezTo>
                  <a:pt x="10774" y="4209"/>
                  <a:pt x="10927" y="4157"/>
                  <a:pt x="11088" y="41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973920" y="2419200"/>
            <a:ext cx="27000" cy="366840"/>
          </a:xfrm>
          <a:custGeom>
            <a:avLst/>
            <a:gdLst/>
            <a:ahLst/>
            <a:rect l="l" t="t" r="r" b="b"/>
            <a:pathLst>
              <a:path w="76" h="1018">
                <a:moveTo>
                  <a:pt x="19422" y="6722"/>
                </a:moveTo>
                <a:cubicBezTo>
                  <a:pt x="19464" y="7015"/>
                  <a:pt x="19441" y="7319"/>
                  <a:pt x="19397" y="7615"/>
                </a:cubicBezTo>
                <a:cubicBezTo>
                  <a:pt x="19378" y="7689"/>
                  <a:pt x="19370" y="7696"/>
                  <a:pt x="19372" y="77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24760" y="2482920"/>
            <a:ext cx="1625400" cy="527040"/>
          </a:xfrm>
          <a:custGeom>
            <a:avLst/>
            <a:gdLst/>
            <a:ahLst/>
            <a:rect l="l" t="t" r="r" b="b"/>
            <a:pathLst>
              <a:path w="4515" h="1464">
                <a:moveTo>
                  <a:pt x="17785" y="6970"/>
                </a:moveTo>
                <a:cubicBezTo>
                  <a:pt x="17808" y="7040"/>
                  <a:pt x="17823" y="6957"/>
                  <a:pt x="17810" y="6945"/>
                </a:cubicBezTo>
                <a:cubicBezTo>
                  <a:pt x="17651" y="6799"/>
                  <a:pt x="17433" y="6936"/>
                  <a:pt x="17289" y="7020"/>
                </a:cubicBezTo>
                <a:cubicBezTo>
                  <a:pt x="17371" y="7183"/>
                  <a:pt x="17647" y="7277"/>
                  <a:pt x="17661" y="7466"/>
                </a:cubicBezTo>
                <a:cubicBezTo>
                  <a:pt x="17674" y="7640"/>
                  <a:pt x="17454" y="7615"/>
                  <a:pt x="17363" y="7615"/>
                </a:cubicBezTo>
                <a:cubicBezTo>
                  <a:pt x="17447" y="7373"/>
                  <a:pt x="17676" y="7243"/>
                  <a:pt x="17760" y="7020"/>
                </a:cubicBezTo>
                <a:cubicBezTo>
                  <a:pt x="17775" y="6980"/>
                  <a:pt x="17638" y="6995"/>
                  <a:pt x="17611" y="6995"/>
                </a:cubicBezTo>
              </a:path>
              <a:path w="4515" h="1464">
                <a:moveTo>
                  <a:pt x="17983" y="7565"/>
                </a:moveTo>
                <a:cubicBezTo>
                  <a:pt x="17961" y="7621"/>
                  <a:pt x="18019" y="7670"/>
                  <a:pt x="17983" y="7615"/>
                </a:cubicBezTo>
              </a:path>
              <a:path w="4515" h="1464">
                <a:moveTo>
                  <a:pt x="18529" y="7020"/>
                </a:moveTo>
                <a:cubicBezTo>
                  <a:pt x="18555" y="6985"/>
                  <a:pt x="18757" y="6882"/>
                  <a:pt x="18802" y="6970"/>
                </a:cubicBezTo>
                <a:cubicBezTo>
                  <a:pt x="18802" y="7099"/>
                  <a:pt x="18798" y="7144"/>
                  <a:pt x="18703" y="7193"/>
                </a:cubicBezTo>
                <a:cubicBezTo>
                  <a:pt x="18686" y="7201"/>
                  <a:pt x="18670" y="7210"/>
                  <a:pt x="18653" y="7218"/>
                </a:cubicBezTo>
                <a:cubicBezTo>
                  <a:pt x="18762" y="7218"/>
                  <a:pt x="18916" y="7224"/>
                  <a:pt x="18852" y="7392"/>
                </a:cubicBezTo>
                <a:cubicBezTo>
                  <a:pt x="18766" y="7617"/>
                  <a:pt x="18533" y="7573"/>
                  <a:pt x="18380" y="7491"/>
                </a:cubicBezTo>
              </a:path>
              <a:path w="4515" h="1464">
                <a:moveTo>
                  <a:pt x="19149" y="6995"/>
                </a:moveTo>
                <a:cubicBezTo>
                  <a:pt x="19149" y="7095"/>
                  <a:pt x="19097" y="7197"/>
                  <a:pt x="19100" y="7293"/>
                </a:cubicBezTo>
                <a:cubicBezTo>
                  <a:pt x="19105" y="7436"/>
                  <a:pt x="19460" y="7293"/>
                  <a:pt x="19521" y="7268"/>
                </a:cubicBezTo>
              </a:path>
              <a:path w="4515" h="1464">
                <a:moveTo>
                  <a:pt x="18157" y="7739"/>
                </a:moveTo>
                <a:cubicBezTo>
                  <a:pt x="18183" y="7765"/>
                  <a:pt x="18154" y="7765"/>
                  <a:pt x="18182" y="7789"/>
                </a:cubicBezTo>
                <a:cubicBezTo>
                  <a:pt x="18292" y="7887"/>
                  <a:pt x="18416" y="7913"/>
                  <a:pt x="18554" y="7863"/>
                </a:cubicBezTo>
                <a:cubicBezTo>
                  <a:pt x="18616" y="7840"/>
                  <a:pt x="18718" y="7792"/>
                  <a:pt x="18752" y="7764"/>
                </a:cubicBezTo>
                <a:cubicBezTo>
                  <a:pt x="18841" y="7690"/>
                  <a:pt x="18782" y="7725"/>
                  <a:pt x="18901" y="7764"/>
                </a:cubicBezTo>
                <a:cubicBezTo>
                  <a:pt x="19036" y="7808"/>
                  <a:pt x="19181" y="7829"/>
                  <a:pt x="19323" y="7813"/>
                </a:cubicBezTo>
                <a:cubicBezTo>
                  <a:pt x="19488" y="7794"/>
                  <a:pt x="19621" y="7771"/>
                  <a:pt x="19769" y="7689"/>
                </a:cubicBezTo>
                <a:cubicBezTo>
                  <a:pt x="19824" y="7658"/>
                  <a:pt x="19852" y="7632"/>
                  <a:pt x="19893" y="7590"/>
                </a:cubicBezTo>
              </a:path>
              <a:path w="4515" h="1464">
                <a:moveTo>
                  <a:pt x="20811" y="6995"/>
                </a:moveTo>
                <a:cubicBezTo>
                  <a:pt x="20849" y="6945"/>
                  <a:pt x="20938" y="6912"/>
                  <a:pt x="21010" y="6896"/>
                </a:cubicBezTo>
                <a:cubicBezTo>
                  <a:pt x="21090" y="7019"/>
                  <a:pt x="21021" y="7085"/>
                  <a:pt x="20935" y="7193"/>
                </a:cubicBezTo>
                <a:cubicBezTo>
                  <a:pt x="20919" y="7210"/>
                  <a:pt x="20902" y="7226"/>
                  <a:pt x="20886" y="7243"/>
                </a:cubicBezTo>
                <a:cubicBezTo>
                  <a:pt x="20976" y="7274"/>
                  <a:pt x="21057" y="7197"/>
                  <a:pt x="21158" y="7169"/>
                </a:cubicBezTo>
                <a:cubicBezTo>
                  <a:pt x="21183" y="7169"/>
                  <a:pt x="21191" y="7169"/>
                  <a:pt x="21208" y="7169"/>
                </a:cubicBezTo>
              </a:path>
              <a:path w="4515" h="1464">
                <a:moveTo>
                  <a:pt x="20563" y="7665"/>
                </a:moveTo>
                <a:cubicBezTo>
                  <a:pt x="20563" y="7751"/>
                  <a:pt x="20580" y="7829"/>
                  <a:pt x="20588" y="7913"/>
                </a:cubicBezTo>
              </a:path>
              <a:path w="4515" h="1464">
                <a:moveTo>
                  <a:pt x="20439" y="7863"/>
                </a:moveTo>
                <a:cubicBezTo>
                  <a:pt x="20552" y="7818"/>
                  <a:pt x="20666" y="7759"/>
                  <a:pt x="20786" y="7739"/>
                </a:cubicBezTo>
              </a:path>
              <a:path w="4515" h="1464">
                <a:moveTo>
                  <a:pt x="21158" y="7441"/>
                </a:moveTo>
                <a:cubicBezTo>
                  <a:pt x="21028" y="7508"/>
                  <a:pt x="21026" y="7603"/>
                  <a:pt x="21010" y="7739"/>
                </a:cubicBezTo>
                <a:cubicBezTo>
                  <a:pt x="21133" y="7777"/>
                  <a:pt x="21283" y="7758"/>
                  <a:pt x="21307" y="7590"/>
                </a:cubicBezTo>
                <a:cubicBezTo>
                  <a:pt x="21327" y="7451"/>
                  <a:pt x="21194" y="7423"/>
                  <a:pt x="21109" y="7466"/>
                </a:cubicBezTo>
              </a:path>
              <a:path w="4515" h="1464">
                <a:moveTo>
                  <a:pt x="20613" y="8136"/>
                </a:moveTo>
                <a:cubicBezTo>
                  <a:pt x="20861" y="8074"/>
                  <a:pt x="21115" y="7974"/>
                  <a:pt x="21357" y="7888"/>
                </a:cubicBezTo>
                <a:cubicBezTo>
                  <a:pt x="21501" y="7837"/>
                  <a:pt x="21654" y="7773"/>
                  <a:pt x="21803" y="7739"/>
                </a:cubicBezTo>
              </a:path>
              <a:path w="4515" h="1464">
                <a:moveTo>
                  <a:pt x="21382" y="8186"/>
                </a:moveTo>
                <a:cubicBezTo>
                  <a:pt x="21455" y="8149"/>
                  <a:pt x="21525" y="8071"/>
                  <a:pt x="21605" y="8037"/>
                </a:cubicBezTo>
                <a:cubicBezTo>
                  <a:pt x="21591" y="8166"/>
                  <a:pt x="21581" y="8279"/>
                  <a:pt x="21481" y="8359"/>
                </a:cubicBezTo>
                <a:cubicBezTo>
                  <a:pt x="21572" y="8337"/>
                  <a:pt x="21663" y="8275"/>
                  <a:pt x="21754" y="8260"/>
                </a:cubicBezTo>
                <a:cubicBezTo>
                  <a:pt x="21762" y="8260"/>
                  <a:pt x="21771" y="8260"/>
                  <a:pt x="21779" y="82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13080" y="3160800"/>
            <a:ext cx="3697200" cy="1546200"/>
          </a:xfrm>
          <a:custGeom>
            <a:avLst/>
            <a:gdLst/>
            <a:ahLst/>
            <a:rect l="l" t="t" r="r" b="b"/>
            <a:pathLst>
              <a:path w="10270" h="4292">
                <a:moveTo>
                  <a:pt x="19472" y="8806"/>
                </a:moveTo>
                <a:cubicBezTo>
                  <a:pt x="19449" y="9004"/>
                  <a:pt x="19433" y="9202"/>
                  <a:pt x="19422" y="9401"/>
                </a:cubicBezTo>
              </a:path>
              <a:path w="10270" h="4292">
                <a:moveTo>
                  <a:pt x="15478" y="9947"/>
                </a:moveTo>
                <a:cubicBezTo>
                  <a:pt x="15587" y="9920"/>
                  <a:pt x="15696" y="9901"/>
                  <a:pt x="15801" y="9872"/>
                </a:cubicBezTo>
              </a:path>
              <a:path w="10270" h="4292">
                <a:moveTo>
                  <a:pt x="18901" y="8781"/>
                </a:moveTo>
                <a:lnTo>
                  <a:pt x="18901" y="8781"/>
                </a:lnTo>
              </a:path>
              <a:path w="10270" h="4292">
                <a:moveTo>
                  <a:pt x="9203" y="13072"/>
                </a:moveTo>
                <a:cubicBezTo>
                  <a:pt x="9311" y="13039"/>
                  <a:pt x="9389" y="13011"/>
                  <a:pt x="9500" y="129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33840" y="3768840"/>
            <a:ext cx="1314360" cy="598320"/>
          </a:xfrm>
          <a:custGeom>
            <a:avLst/>
            <a:gdLst/>
            <a:ahLst/>
            <a:rect l="l" t="t" r="r" b="b"/>
            <a:pathLst>
              <a:path w="3647" h="1662">
                <a:moveTo>
                  <a:pt x="10294" y="11435"/>
                </a:moveTo>
                <a:cubicBezTo>
                  <a:pt x="10286" y="11443"/>
                  <a:pt x="10277" y="11452"/>
                  <a:pt x="10269" y="11460"/>
                </a:cubicBezTo>
                <a:cubicBezTo>
                  <a:pt x="10304" y="11378"/>
                  <a:pt x="10475" y="11205"/>
                  <a:pt x="10542" y="11435"/>
                </a:cubicBezTo>
                <a:cubicBezTo>
                  <a:pt x="10645" y="11791"/>
                  <a:pt x="10392" y="12021"/>
                  <a:pt x="10120" y="12129"/>
                </a:cubicBezTo>
                <a:cubicBezTo>
                  <a:pt x="10121" y="11979"/>
                  <a:pt x="10237" y="11766"/>
                  <a:pt x="10443" y="11881"/>
                </a:cubicBezTo>
                <a:cubicBezTo>
                  <a:pt x="10532" y="11931"/>
                  <a:pt x="10534" y="12045"/>
                  <a:pt x="10542" y="12129"/>
                </a:cubicBezTo>
              </a:path>
              <a:path w="3647" h="1662">
                <a:moveTo>
                  <a:pt x="11013" y="11187"/>
                </a:moveTo>
                <a:cubicBezTo>
                  <a:pt x="10912" y="11199"/>
                  <a:pt x="10666" y="11361"/>
                  <a:pt x="10691" y="11534"/>
                </a:cubicBezTo>
                <a:cubicBezTo>
                  <a:pt x="10718" y="11717"/>
                  <a:pt x="11010" y="11725"/>
                  <a:pt x="11063" y="11956"/>
                </a:cubicBezTo>
                <a:cubicBezTo>
                  <a:pt x="11022" y="11981"/>
                  <a:pt x="10980" y="12005"/>
                  <a:pt x="10939" y="12030"/>
                </a:cubicBezTo>
                <a:cubicBezTo>
                  <a:pt x="10759" y="11802"/>
                  <a:pt x="10951" y="11650"/>
                  <a:pt x="11063" y="11385"/>
                </a:cubicBezTo>
                <a:cubicBezTo>
                  <a:pt x="11113" y="11266"/>
                  <a:pt x="10941" y="11409"/>
                  <a:pt x="10939" y="11410"/>
                </a:cubicBezTo>
              </a:path>
              <a:path w="3647" h="1662">
                <a:moveTo>
                  <a:pt x="11336" y="11807"/>
                </a:moveTo>
                <a:cubicBezTo>
                  <a:pt x="11311" y="11897"/>
                  <a:pt x="11280" y="11977"/>
                  <a:pt x="11385" y="11881"/>
                </a:cubicBezTo>
                <a:cubicBezTo>
                  <a:pt x="11393" y="11873"/>
                  <a:pt x="11402" y="11865"/>
                  <a:pt x="11410" y="11857"/>
                </a:cubicBezTo>
                <a:cubicBezTo>
                  <a:pt x="11289" y="11897"/>
                  <a:pt x="11294" y="11917"/>
                  <a:pt x="11361" y="12005"/>
                </a:cubicBezTo>
                <a:cubicBezTo>
                  <a:pt x="11388" y="11969"/>
                  <a:pt x="11401" y="11970"/>
                  <a:pt x="11361" y="11956"/>
                </a:cubicBezTo>
              </a:path>
              <a:path w="3647" h="1662">
                <a:moveTo>
                  <a:pt x="12129" y="11385"/>
                </a:moveTo>
                <a:cubicBezTo>
                  <a:pt x="11967" y="11385"/>
                  <a:pt x="11961" y="11521"/>
                  <a:pt x="11906" y="11658"/>
                </a:cubicBezTo>
                <a:cubicBezTo>
                  <a:pt x="11841" y="11832"/>
                  <a:pt x="11807" y="11874"/>
                  <a:pt x="11881" y="11981"/>
                </a:cubicBezTo>
                <a:cubicBezTo>
                  <a:pt x="12104" y="11933"/>
                  <a:pt x="12456" y="11807"/>
                  <a:pt x="12254" y="11509"/>
                </a:cubicBezTo>
                <a:cubicBezTo>
                  <a:pt x="12205" y="11437"/>
                  <a:pt x="12081" y="11421"/>
                  <a:pt x="12005" y="11410"/>
                </a:cubicBezTo>
              </a:path>
              <a:path w="3647" h="1662">
                <a:moveTo>
                  <a:pt x="12799" y="11237"/>
                </a:moveTo>
                <a:cubicBezTo>
                  <a:pt x="12650" y="11336"/>
                  <a:pt x="12613" y="11606"/>
                  <a:pt x="12626" y="11782"/>
                </a:cubicBezTo>
                <a:cubicBezTo>
                  <a:pt x="12642" y="11832"/>
                  <a:pt x="12659" y="11881"/>
                  <a:pt x="12675" y="11931"/>
                </a:cubicBezTo>
                <a:cubicBezTo>
                  <a:pt x="12869" y="11922"/>
                  <a:pt x="13211" y="11799"/>
                  <a:pt x="12998" y="11509"/>
                </a:cubicBezTo>
                <a:cubicBezTo>
                  <a:pt x="12961" y="11458"/>
                  <a:pt x="12683" y="11410"/>
                  <a:pt x="12725" y="11410"/>
                </a:cubicBezTo>
              </a:path>
              <a:path w="3647" h="1662">
                <a:moveTo>
                  <a:pt x="13345" y="11286"/>
                </a:moveTo>
                <a:cubicBezTo>
                  <a:pt x="13196" y="11517"/>
                  <a:pt x="13194" y="11625"/>
                  <a:pt x="13320" y="11857"/>
                </a:cubicBezTo>
                <a:cubicBezTo>
                  <a:pt x="13529" y="11805"/>
                  <a:pt x="13939" y="11674"/>
                  <a:pt x="13643" y="11385"/>
                </a:cubicBezTo>
                <a:cubicBezTo>
                  <a:pt x="13493" y="11321"/>
                  <a:pt x="13458" y="11285"/>
                  <a:pt x="13370" y="11361"/>
                </a:cubicBezTo>
              </a:path>
              <a:path w="3647" h="1662">
                <a:moveTo>
                  <a:pt x="10641" y="11237"/>
                </a:moveTo>
                <a:cubicBezTo>
                  <a:pt x="10803" y="11317"/>
                  <a:pt x="10914" y="11583"/>
                  <a:pt x="11013" y="11733"/>
                </a:cubicBezTo>
                <a:cubicBezTo>
                  <a:pt x="11083" y="11839"/>
                  <a:pt x="11168" y="11970"/>
                  <a:pt x="11212" y="12080"/>
                </a:cubicBezTo>
              </a:path>
              <a:path w="3647" h="1662">
                <a:moveTo>
                  <a:pt x="10666" y="10592"/>
                </a:moveTo>
                <a:cubicBezTo>
                  <a:pt x="10779" y="10579"/>
                  <a:pt x="10904" y="10554"/>
                  <a:pt x="11013" y="10517"/>
                </a:cubicBezTo>
                <a:cubicBezTo>
                  <a:pt x="11030" y="10509"/>
                  <a:pt x="11046" y="10500"/>
                  <a:pt x="11063" y="10492"/>
                </a:cubicBezTo>
                <a:cubicBezTo>
                  <a:pt x="11063" y="10639"/>
                  <a:pt x="11036" y="10799"/>
                  <a:pt x="10988" y="10939"/>
                </a:cubicBezTo>
                <a:cubicBezTo>
                  <a:pt x="10966" y="10961"/>
                  <a:pt x="10958" y="10966"/>
                  <a:pt x="10964" y="10988"/>
                </a:cubicBezTo>
              </a:path>
              <a:path w="3647" h="1662">
                <a:moveTo>
                  <a:pt x="11757" y="11460"/>
                </a:moveTo>
                <a:cubicBezTo>
                  <a:pt x="11830" y="11551"/>
                  <a:pt x="11807" y="11724"/>
                  <a:pt x="11807" y="11857"/>
                </a:cubicBezTo>
                <a:cubicBezTo>
                  <a:pt x="11807" y="11881"/>
                  <a:pt x="11807" y="11890"/>
                  <a:pt x="11807" y="11906"/>
                </a:cubicBezTo>
              </a:path>
              <a:path w="3647" h="1662">
                <a:moveTo>
                  <a:pt x="11633" y="11485"/>
                </a:moveTo>
                <a:cubicBezTo>
                  <a:pt x="11820" y="11522"/>
                  <a:pt x="11989" y="11659"/>
                  <a:pt x="12154" y="11757"/>
                </a:cubicBezTo>
                <a:cubicBezTo>
                  <a:pt x="12271" y="11826"/>
                  <a:pt x="12322" y="11935"/>
                  <a:pt x="12303" y="11807"/>
                </a:cubicBezTo>
              </a:path>
              <a:path w="3647" h="1662">
                <a:moveTo>
                  <a:pt x="11881" y="10592"/>
                </a:moveTo>
                <a:cubicBezTo>
                  <a:pt x="11803" y="10513"/>
                  <a:pt x="11765" y="10486"/>
                  <a:pt x="11658" y="10468"/>
                </a:cubicBezTo>
                <a:cubicBezTo>
                  <a:pt x="11579" y="10606"/>
                  <a:pt x="11629" y="10700"/>
                  <a:pt x="11683" y="10840"/>
                </a:cubicBezTo>
                <a:cubicBezTo>
                  <a:pt x="11780" y="10758"/>
                  <a:pt x="11815" y="10737"/>
                  <a:pt x="11807" y="10616"/>
                </a:cubicBezTo>
                <a:cubicBezTo>
                  <a:pt x="11807" y="10592"/>
                  <a:pt x="11807" y="10584"/>
                  <a:pt x="11807" y="10616"/>
                </a:cubicBezTo>
                <a:cubicBezTo>
                  <a:pt x="11882" y="10782"/>
                  <a:pt x="11855" y="10928"/>
                  <a:pt x="11906" y="11088"/>
                </a:cubicBezTo>
                <a:cubicBezTo>
                  <a:pt x="11928" y="11110"/>
                  <a:pt x="11937" y="11121"/>
                  <a:pt x="11931" y="11088"/>
                </a:cubicBezTo>
              </a:path>
              <a:path w="3647" h="1662">
                <a:moveTo>
                  <a:pt x="12402" y="11385"/>
                </a:moveTo>
                <a:cubicBezTo>
                  <a:pt x="12402" y="11501"/>
                  <a:pt x="12402" y="11617"/>
                  <a:pt x="12402" y="11733"/>
                </a:cubicBezTo>
              </a:path>
              <a:path w="3647" h="1662">
                <a:moveTo>
                  <a:pt x="12303" y="11336"/>
                </a:moveTo>
                <a:cubicBezTo>
                  <a:pt x="12429" y="11492"/>
                  <a:pt x="12596" y="11588"/>
                  <a:pt x="12774" y="11683"/>
                </a:cubicBezTo>
                <a:cubicBezTo>
                  <a:pt x="12820" y="11708"/>
                  <a:pt x="12905" y="11785"/>
                  <a:pt x="12923" y="11733"/>
                </a:cubicBezTo>
              </a:path>
              <a:path w="3647" h="1662">
                <a:moveTo>
                  <a:pt x="12576" y="10666"/>
                </a:moveTo>
                <a:cubicBezTo>
                  <a:pt x="12548" y="10624"/>
                  <a:pt x="12448" y="10503"/>
                  <a:pt x="12378" y="10592"/>
                </a:cubicBezTo>
                <a:cubicBezTo>
                  <a:pt x="12331" y="10652"/>
                  <a:pt x="12309" y="10872"/>
                  <a:pt x="12452" y="10815"/>
                </a:cubicBezTo>
                <a:cubicBezTo>
                  <a:pt x="12518" y="10789"/>
                  <a:pt x="12519" y="10720"/>
                  <a:pt x="12526" y="10666"/>
                </a:cubicBezTo>
                <a:cubicBezTo>
                  <a:pt x="12566" y="10798"/>
                  <a:pt x="12549" y="10967"/>
                  <a:pt x="12576" y="11112"/>
                </a:cubicBezTo>
              </a:path>
              <a:path w="3647" h="1662">
                <a:moveTo>
                  <a:pt x="13097" y="11187"/>
                </a:moveTo>
                <a:cubicBezTo>
                  <a:pt x="13097" y="11116"/>
                  <a:pt x="13118" y="11428"/>
                  <a:pt x="13122" y="11460"/>
                </a:cubicBezTo>
                <a:cubicBezTo>
                  <a:pt x="13122" y="11468"/>
                  <a:pt x="13122" y="11477"/>
                  <a:pt x="13122" y="114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626080" y="2847960"/>
            <a:ext cx="2374920" cy="1251000"/>
          </a:xfrm>
          <a:custGeom>
            <a:avLst/>
            <a:gdLst/>
            <a:ahLst/>
            <a:rect l="l" t="t" r="r" b="b"/>
            <a:pathLst>
              <a:path w="6599" h="3473">
                <a:moveTo>
                  <a:pt x="16396" y="8037"/>
                </a:moveTo>
                <a:cubicBezTo>
                  <a:pt x="16524" y="8164"/>
                  <a:pt x="16596" y="8293"/>
                  <a:pt x="16694" y="8434"/>
                </a:cubicBezTo>
                <a:cubicBezTo>
                  <a:pt x="16694" y="8375"/>
                  <a:pt x="16700" y="8334"/>
                  <a:pt x="16718" y="8285"/>
                </a:cubicBezTo>
              </a:path>
              <a:path w="6599" h="3473">
                <a:moveTo>
                  <a:pt x="16743" y="8012"/>
                </a:moveTo>
                <a:cubicBezTo>
                  <a:pt x="16665" y="8122"/>
                  <a:pt x="16445" y="8379"/>
                  <a:pt x="16446" y="8458"/>
                </a:cubicBezTo>
              </a:path>
              <a:path w="6599" h="3473">
                <a:moveTo>
                  <a:pt x="18628" y="7962"/>
                </a:moveTo>
                <a:cubicBezTo>
                  <a:pt x="18645" y="8130"/>
                  <a:pt x="18653" y="8289"/>
                  <a:pt x="18653" y="8458"/>
                </a:cubicBezTo>
              </a:path>
              <a:path w="6599" h="3473">
                <a:moveTo>
                  <a:pt x="19124" y="7913"/>
                </a:moveTo>
                <a:cubicBezTo>
                  <a:pt x="19124" y="8114"/>
                  <a:pt x="19141" y="8309"/>
                  <a:pt x="19149" y="8508"/>
                </a:cubicBezTo>
                <a:cubicBezTo>
                  <a:pt x="19149" y="8516"/>
                  <a:pt x="19149" y="8525"/>
                  <a:pt x="19149" y="8533"/>
                </a:cubicBezTo>
              </a:path>
              <a:path w="6599" h="3473">
                <a:moveTo>
                  <a:pt x="15801" y="8855"/>
                </a:moveTo>
                <a:cubicBezTo>
                  <a:pt x="16289" y="8834"/>
                  <a:pt x="16775" y="8818"/>
                  <a:pt x="17264" y="8806"/>
                </a:cubicBezTo>
                <a:cubicBezTo>
                  <a:pt x="18121" y="8784"/>
                  <a:pt x="18965" y="8673"/>
                  <a:pt x="19819" y="8632"/>
                </a:cubicBezTo>
                <a:cubicBezTo>
                  <a:pt x="19976" y="8632"/>
                  <a:pt x="19984" y="8632"/>
                  <a:pt x="20067" y="8632"/>
                </a:cubicBezTo>
              </a:path>
              <a:path w="6599" h="3473">
                <a:moveTo>
                  <a:pt x="19248" y="8905"/>
                </a:moveTo>
                <a:cubicBezTo>
                  <a:pt x="19273" y="8905"/>
                  <a:pt x="19281" y="8905"/>
                  <a:pt x="19273" y="8880"/>
                </a:cubicBezTo>
                <a:cubicBezTo>
                  <a:pt x="19266" y="8947"/>
                  <a:pt x="19211" y="9100"/>
                  <a:pt x="19323" y="9128"/>
                </a:cubicBezTo>
                <a:cubicBezTo>
                  <a:pt x="19414" y="9151"/>
                  <a:pt x="19497" y="9120"/>
                  <a:pt x="19571" y="9079"/>
                </a:cubicBezTo>
              </a:path>
              <a:path w="6599" h="3473">
                <a:moveTo>
                  <a:pt x="18405" y="8930"/>
                </a:moveTo>
                <a:cubicBezTo>
                  <a:pt x="18496" y="8907"/>
                  <a:pt x="18594" y="8823"/>
                  <a:pt x="18703" y="8855"/>
                </a:cubicBezTo>
                <a:cubicBezTo>
                  <a:pt x="18719" y="8872"/>
                  <a:pt x="18736" y="8888"/>
                  <a:pt x="18752" y="8905"/>
                </a:cubicBezTo>
                <a:cubicBezTo>
                  <a:pt x="18690" y="9004"/>
                  <a:pt x="18651" y="9060"/>
                  <a:pt x="18554" y="9128"/>
                </a:cubicBezTo>
                <a:cubicBezTo>
                  <a:pt x="18678" y="9153"/>
                  <a:pt x="18813" y="9281"/>
                  <a:pt x="18653" y="9401"/>
                </a:cubicBezTo>
                <a:cubicBezTo>
                  <a:pt x="18519" y="9501"/>
                  <a:pt x="18386" y="9445"/>
                  <a:pt x="18256" y="9401"/>
                </a:cubicBezTo>
              </a:path>
              <a:path w="6599" h="3473">
                <a:moveTo>
                  <a:pt x="17512" y="9029"/>
                </a:moveTo>
                <a:cubicBezTo>
                  <a:pt x="17559" y="8887"/>
                  <a:pt x="17255" y="9000"/>
                  <a:pt x="17190" y="9029"/>
                </a:cubicBezTo>
                <a:cubicBezTo>
                  <a:pt x="17157" y="9054"/>
                  <a:pt x="17123" y="9078"/>
                  <a:pt x="17090" y="9103"/>
                </a:cubicBezTo>
                <a:cubicBezTo>
                  <a:pt x="17200" y="9247"/>
                  <a:pt x="17381" y="9351"/>
                  <a:pt x="17462" y="9500"/>
                </a:cubicBezTo>
                <a:cubicBezTo>
                  <a:pt x="17224" y="9569"/>
                  <a:pt x="17310" y="9338"/>
                  <a:pt x="17413" y="9178"/>
                </a:cubicBezTo>
                <a:cubicBezTo>
                  <a:pt x="17489" y="9059"/>
                  <a:pt x="17562" y="9079"/>
                  <a:pt x="17462" y="9079"/>
                </a:cubicBezTo>
              </a:path>
              <a:path w="6599" h="3473">
                <a:moveTo>
                  <a:pt x="19521" y="9748"/>
                </a:moveTo>
                <a:cubicBezTo>
                  <a:pt x="19563" y="9748"/>
                  <a:pt x="19410" y="9757"/>
                  <a:pt x="19372" y="9798"/>
                </a:cubicBezTo>
                <a:cubicBezTo>
                  <a:pt x="19270" y="9909"/>
                  <a:pt x="19257" y="10135"/>
                  <a:pt x="19447" y="10145"/>
                </a:cubicBezTo>
                <a:cubicBezTo>
                  <a:pt x="19650" y="10155"/>
                  <a:pt x="19726" y="9975"/>
                  <a:pt x="19621" y="9823"/>
                </a:cubicBezTo>
                <a:cubicBezTo>
                  <a:pt x="19592" y="9781"/>
                  <a:pt x="19534" y="9781"/>
                  <a:pt x="19496" y="9748"/>
                </a:cubicBezTo>
              </a:path>
              <a:path w="6599" h="3473">
                <a:moveTo>
                  <a:pt x="18355" y="9823"/>
                </a:moveTo>
                <a:cubicBezTo>
                  <a:pt x="18355" y="9766"/>
                  <a:pt x="18288" y="9977"/>
                  <a:pt x="18281" y="9996"/>
                </a:cubicBezTo>
                <a:cubicBezTo>
                  <a:pt x="18281" y="10004"/>
                  <a:pt x="18281" y="10013"/>
                  <a:pt x="18281" y="10021"/>
                </a:cubicBezTo>
                <a:cubicBezTo>
                  <a:pt x="18391" y="10015"/>
                  <a:pt x="18595" y="9967"/>
                  <a:pt x="18653" y="9996"/>
                </a:cubicBezTo>
              </a:path>
              <a:path w="6599" h="3473">
                <a:moveTo>
                  <a:pt x="18579" y="9723"/>
                </a:moveTo>
                <a:cubicBezTo>
                  <a:pt x="18553" y="9904"/>
                  <a:pt x="18519" y="10087"/>
                  <a:pt x="18504" y="10269"/>
                </a:cubicBezTo>
              </a:path>
              <a:path w="6599" h="3473">
                <a:moveTo>
                  <a:pt x="17239" y="9897"/>
                </a:moveTo>
                <a:cubicBezTo>
                  <a:pt x="17239" y="9940"/>
                  <a:pt x="17282" y="9817"/>
                  <a:pt x="17338" y="9798"/>
                </a:cubicBezTo>
                <a:cubicBezTo>
                  <a:pt x="17587" y="9716"/>
                  <a:pt x="17373" y="10019"/>
                  <a:pt x="17338" y="10071"/>
                </a:cubicBezTo>
                <a:cubicBezTo>
                  <a:pt x="17330" y="10079"/>
                  <a:pt x="17322" y="10088"/>
                  <a:pt x="17314" y="10096"/>
                </a:cubicBezTo>
                <a:cubicBezTo>
                  <a:pt x="17387" y="10022"/>
                  <a:pt x="17617" y="10020"/>
                  <a:pt x="17487" y="10170"/>
                </a:cubicBezTo>
                <a:cubicBezTo>
                  <a:pt x="17369" y="10307"/>
                  <a:pt x="17253" y="10272"/>
                  <a:pt x="17115" y="10244"/>
                </a:cubicBezTo>
              </a:path>
              <a:path w="6599" h="3473">
                <a:moveTo>
                  <a:pt x="16495" y="9847"/>
                </a:moveTo>
                <a:cubicBezTo>
                  <a:pt x="16411" y="9853"/>
                  <a:pt x="16350" y="9865"/>
                  <a:pt x="16272" y="9897"/>
                </a:cubicBezTo>
                <a:cubicBezTo>
                  <a:pt x="16408" y="10033"/>
                  <a:pt x="16537" y="10063"/>
                  <a:pt x="16594" y="10244"/>
                </a:cubicBezTo>
                <a:cubicBezTo>
                  <a:pt x="16379" y="10328"/>
                  <a:pt x="16377" y="10211"/>
                  <a:pt x="16470" y="10021"/>
                </a:cubicBezTo>
                <a:cubicBezTo>
                  <a:pt x="16506" y="9947"/>
                  <a:pt x="16645" y="9808"/>
                  <a:pt x="16495" y="9872"/>
                </a:cubicBezTo>
              </a:path>
              <a:path w="6599" h="3473">
                <a:moveTo>
                  <a:pt x="16148" y="10418"/>
                </a:moveTo>
                <a:cubicBezTo>
                  <a:pt x="16580" y="10358"/>
                  <a:pt x="17003" y="10358"/>
                  <a:pt x="17438" y="10344"/>
                </a:cubicBezTo>
                <a:cubicBezTo>
                  <a:pt x="18174" y="10320"/>
                  <a:pt x="18909" y="10308"/>
                  <a:pt x="19645" y="10269"/>
                </a:cubicBezTo>
                <a:cubicBezTo>
                  <a:pt x="19921" y="10254"/>
                  <a:pt x="20188" y="10244"/>
                  <a:pt x="20464" y="10244"/>
                </a:cubicBezTo>
              </a:path>
              <a:path w="6599" h="3473">
                <a:moveTo>
                  <a:pt x="15627" y="9748"/>
                </a:moveTo>
                <a:cubicBezTo>
                  <a:pt x="15627" y="9856"/>
                  <a:pt x="15627" y="9963"/>
                  <a:pt x="15627" y="10071"/>
                </a:cubicBezTo>
              </a:path>
              <a:path w="6599" h="3473">
                <a:moveTo>
                  <a:pt x="19571" y="10517"/>
                </a:moveTo>
                <a:cubicBezTo>
                  <a:pt x="19571" y="10600"/>
                  <a:pt x="19484" y="10704"/>
                  <a:pt x="19546" y="10765"/>
                </a:cubicBezTo>
                <a:cubicBezTo>
                  <a:pt x="19589" y="10807"/>
                  <a:pt x="19838" y="10813"/>
                  <a:pt x="19869" y="10765"/>
                </a:cubicBezTo>
                <a:cubicBezTo>
                  <a:pt x="19869" y="10749"/>
                  <a:pt x="19869" y="10732"/>
                  <a:pt x="19869" y="10716"/>
                </a:cubicBezTo>
              </a:path>
              <a:path w="6599" h="3473">
                <a:moveTo>
                  <a:pt x="19819" y="10443"/>
                </a:moveTo>
                <a:cubicBezTo>
                  <a:pt x="19783" y="10637"/>
                  <a:pt x="19769" y="10816"/>
                  <a:pt x="19769" y="11013"/>
                </a:cubicBezTo>
                <a:cubicBezTo>
                  <a:pt x="19769" y="11021"/>
                  <a:pt x="19769" y="11105"/>
                  <a:pt x="19769" y="11038"/>
                </a:cubicBezTo>
              </a:path>
              <a:path w="6599" h="3473">
                <a:moveTo>
                  <a:pt x="18628" y="10691"/>
                </a:moveTo>
                <a:cubicBezTo>
                  <a:pt x="18665" y="10635"/>
                  <a:pt x="18861" y="10606"/>
                  <a:pt x="18951" y="10592"/>
                </a:cubicBezTo>
                <a:cubicBezTo>
                  <a:pt x="18967" y="10592"/>
                  <a:pt x="18984" y="10592"/>
                  <a:pt x="19000" y="10592"/>
                </a:cubicBezTo>
                <a:cubicBezTo>
                  <a:pt x="18982" y="10754"/>
                  <a:pt x="18928" y="10904"/>
                  <a:pt x="18901" y="11063"/>
                </a:cubicBezTo>
                <a:cubicBezTo>
                  <a:pt x="18901" y="11079"/>
                  <a:pt x="18901" y="11096"/>
                  <a:pt x="18901" y="11112"/>
                </a:cubicBezTo>
              </a:path>
              <a:path w="6599" h="3473">
                <a:moveTo>
                  <a:pt x="17587" y="10740"/>
                </a:moveTo>
                <a:cubicBezTo>
                  <a:pt x="17587" y="10881"/>
                  <a:pt x="17609" y="11020"/>
                  <a:pt x="17611" y="11162"/>
                </a:cubicBezTo>
                <a:cubicBezTo>
                  <a:pt x="17611" y="11294"/>
                  <a:pt x="17611" y="11311"/>
                  <a:pt x="17611" y="11385"/>
                </a:cubicBezTo>
              </a:path>
              <a:path w="6599" h="3473">
                <a:moveTo>
                  <a:pt x="16421" y="8954"/>
                </a:moveTo>
                <a:cubicBezTo>
                  <a:pt x="16436" y="9074"/>
                  <a:pt x="16432" y="9158"/>
                  <a:pt x="16421" y="9277"/>
                </a:cubicBezTo>
              </a:path>
              <a:path w="6599" h="3473">
                <a:moveTo>
                  <a:pt x="16793" y="10815"/>
                </a:moveTo>
                <a:cubicBezTo>
                  <a:pt x="16720" y="10717"/>
                  <a:pt x="16581" y="10611"/>
                  <a:pt x="16446" y="10691"/>
                </a:cubicBezTo>
                <a:cubicBezTo>
                  <a:pt x="16264" y="10799"/>
                  <a:pt x="16421" y="10928"/>
                  <a:pt x="16495" y="11013"/>
                </a:cubicBezTo>
                <a:cubicBezTo>
                  <a:pt x="16669" y="10937"/>
                  <a:pt x="16679" y="10891"/>
                  <a:pt x="16743" y="10716"/>
                </a:cubicBezTo>
                <a:cubicBezTo>
                  <a:pt x="16743" y="10882"/>
                  <a:pt x="16765" y="11045"/>
                  <a:pt x="16768" y="11212"/>
                </a:cubicBezTo>
                <a:cubicBezTo>
                  <a:pt x="16768" y="11311"/>
                  <a:pt x="16768" y="11327"/>
                  <a:pt x="16768" y="11385"/>
                </a:cubicBezTo>
              </a:path>
              <a:path w="6599" h="3473">
                <a:moveTo>
                  <a:pt x="18231" y="11212"/>
                </a:moveTo>
                <a:cubicBezTo>
                  <a:pt x="18227" y="11201"/>
                  <a:pt x="18162" y="11161"/>
                  <a:pt x="18157" y="11187"/>
                </a:cubicBezTo>
                <a:cubicBezTo>
                  <a:pt x="18147" y="11238"/>
                  <a:pt x="18166" y="11454"/>
                  <a:pt x="18207" y="11261"/>
                </a:cubicBezTo>
                <a:cubicBezTo>
                  <a:pt x="18207" y="11210"/>
                  <a:pt x="18206" y="11191"/>
                  <a:pt x="18182" y="11162"/>
                </a:cubicBezTo>
                <a:cubicBezTo>
                  <a:pt x="18170" y="11177"/>
                  <a:pt x="18095" y="11417"/>
                  <a:pt x="18207" y="11311"/>
                </a:cubicBezTo>
                <a:cubicBezTo>
                  <a:pt x="18338" y="11188"/>
                  <a:pt x="18164" y="11085"/>
                  <a:pt x="18132" y="11162"/>
                </a:cubicBezTo>
                <a:cubicBezTo>
                  <a:pt x="18132" y="11195"/>
                  <a:pt x="18132" y="11228"/>
                  <a:pt x="18132" y="11261"/>
                </a:cubicBezTo>
                <a:cubicBezTo>
                  <a:pt x="18192" y="11322"/>
                  <a:pt x="18341" y="11301"/>
                  <a:pt x="18281" y="11162"/>
                </a:cubicBezTo>
                <a:cubicBezTo>
                  <a:pt x="18251" y="11092"/>
                  <a:pt x="18199" y="11256"/>
                  <a:pt x="18207" y="11286"/>
                </a:cubicBezTo>
              </a:path>
              <a:path w="6599" h="3473">
                <a:moveTo>
                  <a:pt x="21282" y="10592"/>
                </a:moveTo>
                <a:cubicBezTo>
                  <a:pt x="21375" y="10573"/>
                  <a:pt x="21459" y="10531"/>
                  <a:pt x="21555" y="10517"/>
                </a:cubicBezTo>
                <a:cubicBezTo>
                  <a:pt x="21533" y="10687"/>
                  <a:pt x="21472" y="10771"/>
                  <a:pt x="21382" y="10914"/>
                </a:cubicBezTo>
                <a:cubicBezTo>
                  <a:pt x="21504" y="10865"/>
                  <a:pt x="21619" y="10834"/>
                  <a:pt x="21679" y="10716"/>
                </a:cubicBezTo>
              </a:path>
              <a:path w="6599" h="3473">
                <a:moveTo>
                  <a:pt x="21506" y="8582"/>
                </a:moveTo>
                <a:cubicBezTo>
                  <a:pt x="21598" y="8864"/>
                  <a:pt x="21618" y="9153"/>
                  <a:pt x="21605" y="9451"/>
                </a:cubicBezTo>
                <a:cubicBezTo>
                  <a:pt x="21597" y="9642"/>
                  <a:pt x="21565" y="9831"/>
                  <a:pt x="21555" y="10021"/>
                </a:cubicBezTo>
                <a:cubicBezTo>
                  <a:pt x="21552" y="10070"/>
                  <a:pt x="21572" y="10044"/>
                  <a:pt x="21580" y="10021"/>
                </a:cubicBezTo>
              </a:path>
              <a:path w="6599" h="3473">
                <a:moveTo>
                  <a:pt x="21977" y="9252"/>
                </a:moveTo>
                <a:cubicBezTo>
                  <a:pt x="21996" y="9220"/>
                  <a:pt x="22153" y="9100"/>
                  <a:pt x="22200" y="9128"/>
                </a:cubicBezTo>
                <a:cubicBezTo>
                  <a:pt x="22200" y="9203"/>
                  <a:pt x="22185" y="9239"/>
                  <a:pt x="22126" y="9277"/>
                </a:cubicBezTo>
              </a:path>
              <a:path w="6599" h="3473">
                <a:moveTo>
                  <a:pt x="22002" y="9401"/>
                </a:moveTo>
                <a:cubicBezTo>
                  <a:pt x="22088" y="9401"/>
                  <a:pt x="22145" y="9360"/>
                  <a:pt x="22225" y="93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25920" y="4510080"/>
            <a:ext cx="490320" cy="268200"/>
          </a:xfrm>
          <a:custGeom>
            <a:avLst/>
            <a:gdLst/>
            <a:ahLst/>
            <a:rect l="l" t="t" r="r" b="b"/>
            <a:pathLst>
              <a:path w="1365" h="746">
                <a:moveTo>
                  <a:pt x="10120" y="12750"/>
                </a:moveTo>
                <a:cubicBezTo>
                  <a:pt x="10136" y="12685"/>
                  <a:pt x="10271" y="12587"/>
                  <a:pt x="10344" y="12626"/>
                </a:cubicBezTo>
                <a:cubicBezTo>
                  <a:pt x="10631" y="12778"/>
                  <a:pt x="10337" y="13175"/>
                  <a:pt x="10170" y="13271"/>
                </a:cubicBezTo>
                <a:cubicBezTo>
                  <a:pt x="10137" y="13271"/>
                  <a:pt x="10104" y="13271"/>
                  <a:pt x="10071" y="13271"/>
                </a:cubicBezTo>
                <a:cubicBezTo>
                  <a:pt x="10127" y="13130"/>
                  <a:pt x="10275" y="12851"/>
                  <a:pt x="10492" y="12998"/>
                </a:cubicBezTo>
                <a:cubicBezTo>
                  <a:pt x="10560" y="13044"/>
                  <a:pt x="10527" y="13114"/>
                  <a:pt x="10592" y="13146"/>
                </a:cubicBezTo>
              </a:path>
              <a:path w="1365" h="746">
                <a:moveTo>
                  <a:pt x="10889" y="12526"/>
                </a:moveTo>
                <a:cubicBezTo>
                  <a:pt x="10889" y="12672"/>
                  <a:pt x="10953" y="12807"/>
                  <a:pt x="10988" y="12948"/>
                </a:cubicBezTo>
                <a:cubicBezTo>
                  <a:pt x="11008" y="13047"/>
                  <a:pt x="11016" y="13063"/>
                  <a:pt x="11013" y="13122"/>
                </a:cubicBezTo>
              </a:path>
              <a:path w="1365" h="746">
                <a:moveTo>
                  <a:pt x="11385" y="12923"/>
                </a:moveTo>
                <a:cubicBezTo>
                  <a:pt x="11358" y="12977"/>
                  <a:pt x="11300" y="13071"/>
                  <a:pt x="11410" y="12998"/>
                </a:cubicBezTo>
                <a:cubicBezTo>
                  <a:pt x="11469" y="12959"/>
                  <a:pt x="11352" y="12962"/>
                  <a:pt x="11385" y="129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03800" y="4394160"/>
            <a:ext cx="644400" cy="241200"/>
          </a:xfrm>
          <a:custGeom>
            <a:avLst/>
            <a:gdLst/>
            <a:ahLst/>
            <a:rect l="l" t="t" r="r" b="b"/>
            <a:pathLst>
              <a:path w="1787" h="671">
                <a:moveTo>
                  <a:pt x="12204" y="12278"/>
                </a:moveTo>
                <a:cubicBezTo>
                  <a:pt x="12059" y="12279"/>
                  <a:pt x="12066" y="12319"/>
                  <a:pt x="11956" y="12452"/>
                </a:cubicBezTo>
                <a:cubicBezTo>
                  <a:pt x="12076" y="12616"/>
                  <a:pt x="12282" y="12643"/>
                  <a:pt x="12427" y="12799"/>
                </a:cubicBezTo>
                <a:cubicBezTo>
                  <a:pt x="12095" y="12942"/>
                  <a:pt x="12115" y="12826"/>
                  <a:pt x="12229" y="12526"/>
                </a:cubicBezTo>
                <a:cubicBezTo>
                  <a:pt x="12271" y="12419"/>
                  <a:pt x="12305" y="12384"/>
                  <a:pt x="12204" y="12378"/>
                </a:cubicBezTo>
              </a:path>
              <a:path w="1787" h="671">
                <a:moveTo>
                  <a:pt x="12601" y="12328"/>
                </a:moveTo>
                <a:cubicBezTo>
                  <a:pt x="12796" y="12339"/>
                  <a:pt x="13069" y="12472"/>
                  <a:pt x="12874" y="12725"/>
                </a:cubicBezTo>
                <a:cubicBezTo>
                  <a:pt x="12731" y="12827"/>
                  <a:pt x="12711" y="12868"/>
                  <a:pt x="12601" y="12849"/>
                </a:cubicBezTo>
                <a:cubicBezTo>
                  <a:pt x="12826" y="12667"/>
                  <a:pt x="12858" y="12706"/>
                  <a:pt x="13072" y="12849"/>
                </a:cubicBezTo>
                <a:cubicBezTo>
                  <a:pt x="13080" y="12849"/>
                  <a:pt x="13089" y="12849"/>
                  <a:pt x="13097" y="12849"/>
                </a:cubicBezTo>
              </a:path>
              <a:path w="1787" h="671">
                <a:moveTo>
                  <a:pt x="13295" y="12204"/>
                </a:moveTo>
                <a:cubicBezTo>
                  <a:pt x="13385" y="12204"/>
                  <a:pt x="13655" y="12163"/>
                  <a:pt x="13568" y="12328"/>
                </a:cubicBezTo>
                <a:cubicBezTo>
                  <a:pt x="13483" y="12434"/>
                  <a:pt x="13470" y="12462"/>
                  <a:pt x="13395" y="12502"/>
                </a:cubicBezTo>
                <a:cubicBezTo>
                  <a:pt x="13560" y="12409"/>
                  <a:pt x="13542" y="12448"/>
                  <a:pt x="13717" y="12477"/>
                </a:cubicBezTo>
                <a:cubicBezTo>
                  <a:pt x="13690" y="12746"/>
                  <a:pt x="13565" y="12767"/>
                  <a:pt x="13295" y="127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99000" y="4902120"/>
            <a:ext cx="419040" cy="233280"/>
          </a:xfrm>
          <a:custGeom>
            <a:avLst/>
            <a:gdLst/>
            <a:ahLst/>
            <a:rect l="l" t="t" r="r" b="b"/>
            <a:pathLst>
              <a:path w="1167" h="646">
                <a:moveTo>
                  <a:pt x="13519" y="13767"/>
                </a:moveTo>
                <a:cubicBezTo>
                  <a:pt x="13535" y="13718"/>
                  <a:pt x="13545" y="13694"/>
                  <a:pt x="13568" y="13791"/>
                </a:cubicBezTo>
                <a:cubicBezTo>
                  <a:pt x="13568" y="13799"/>
                  <a:pt x="13568" y="13808"/>
                  <a:pt x="13568" y="13816"/>
                </a:cubicBezTo>
                <a:cubicBezTo>
                  <a:pt x="13555" y="13763"/>
                  <a:pt x="13528" y="13673"/>
                  <a:pt x="13618" y="13643"/>
                </a:cubicBezTo>
                <a:cubicBezTo>
                  <a:pt x="13720" y="13609"/>
                  <a:pt x="13851" y="13685"/>
                  <a:pt x="13940" y="13618"/>
                </a:cubicBezTo>
                <a:cubicBezTo>
                  <a:pt x="13940" y="13797"/>
                  <a:pt x="13889" y="13967"/>
                  <a:pt x="13841" y="14139"/>
                </a:cubicBezTo>
                <a:cubicBezTo>
                  <a:pt x="13833" y="14164"/>
                  <a:pt x="13824" y="14188"/>
                  <a:pt x="13816" y="14213"/>
                </a:cubicBezTo>
              </a:path>
              <a:path w="1167" h="646">
                <a:moveTo>
                  <a:pt x="12774" y="13841"/>
                </a:moveTo>
                <a:cubicBezTo>
                  <a:pt x="12774" y="13774"/>
                  <a:pt x="12793" y="13710"/>
                  <a:pt x="12874" y="13692"/>
                </a:cubicBezTo>
                <a:cubicBezTo>
                  <a:pt x="12969" y="13670"/>
                  <a:pt x="13042" y="13712"/>
                  <a:pt x="13122" y="13667"/>
                </a:cubicBezTo>
                <a:cubicBezTo>
                  <a:pt x="13138" y="13659"/>
                  <a:pt x="13155" y="13651"/>
                  <a:pt x="13171" y="13643"/>
                </a:cubicBezTo>
                <a:cubicBezTo>
                  <a:pt x="13171" y="13837"/>
                  <a:pt x="13132" y="14020"/>
                  <a:pt x="13122" y="14213"/>
                </a:cubicBezTo>
                <a:cubicBezTo>
                  <a:pt x="13122" y="14230"/>
                  <a:pt x="13122" y="14246"/>
                  <a:pt x="13122" y="142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19720" y="5010120"/>
            <a:ext cx="63360" cy="223920"/>
          </a:xfrm>
          <a:custGeom>
            <a:avLst/>
            <a:gdLst/>
            <a:ahLst/>
            <a:rect l="l" t="t" r="r" b="b"/>
            <a:pathLst>
              <a:path w="175" h="622">
                <a:moveTo>
                  <a:pt x="12278" y="13915"/>
                </a:moveTo>
                <a:cubicBezTo>
                  <a:pt x="12309" y="14070"/>
                  <a:pt x="12388" y="14228"/>
                  <a:pt x="12427" y="14387"/>
                </a:cubicBezTo>
                <a:cubicBezTo>
                  <a:pt x="12462" y="14531"/>
                  <a:pt x="12452" y="14590"/>
                  <a:pt x="12452" y="144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46680" y="5062680"/>
            <a:ext cx="322200" cy="260280"/>
          </a:xfrm>
          <a:custGeom>
            <a:avLst/>
            <a:gdLst/>
            <a:ahLst/>
            <a:rect l="l" t="t" r="r" b="b"/>
            <a:pathLst>
              <a:path w="894" h="721">
                <a:moveTo>
                  <a:pt x="10988" y="14064"/>
                </a:moveTo>
                <a:cubicBezTo>
                  <a:pt x="10961" y="14134"/>
                  <a:pt x="11000" y="14394"/>
                  <a:pt x="11013" y="14511"/>
                </a:cubicBezTo>
                <a:cubicBezTo>
                  <a:pt x="11034" y="14636"/>
                  <a:pt x="11035" y="14663"/>
                  <a:pt x="11063" y="14734"/>
                </a:cubicBezTo>
                <a:cubicBezTo>
                  <a:pt x="11205" y="14782"/>
                  <a:pt x="11239" y="14738"/>
                  <a:pt x="11311" y="14610"/>
                </a:cubicBezTo>
                <a:cubicBezTo>
                  <a:pt x="11344" y="14552"/>
                  <a:pt x="11418" y="14315"/>
                  <a:pt x="11336" y="14263"/>
                </a:cubicBezTo>
                <a:cubicBezTo>
                  <a:pt x="11319" y="14263"/>
                  <a:pt x="11303" y="14263"/>
                  <a:pt x="11286" y="14263"/>
                </a:cubicBezTo>
                <a:cubicBezTo>
                  <a:pt x="11196" y="14399"/>
                  <a:pt x="11138" y="14561"/>
                  <a:pt x="11212" y="14734"/>
                </a:cubicBezTo>
                <a:cubicBezTo>
                  <a:pt x="11228" y="14751"/>
                  <a:pt x="11245" y="14767"/>
                  <a:pt x="11261" y="14784"/>
                </a:cubicBezTo>
              </a:path>
              <a:path w="894" h="721">
                <a:moveTo>
                  <a:pt x="11807" y="14585"/>
                </a:moveTo>
                <a:cubicBezTo>
                  <a:pt x="11732" y="14566"/>
                  <a:pt x="11770" y="14554"/>
                  <a:pt x="11782" y="14610"/>
                </a:cubicBezTo>
                <a:cubicBezTo>
                  <a:pt x="11795" y="14673"/>
                  <a:pt x="11771" y="14660"/>
                  <a:pt x="11832" y="14660"/>
                </a:cubicBezTo>
                <a:cubicBezTo>
                  <a:pt x="11856" y="14562"/>
                  <a:pt x="11835" y="14548"/>
                  <a:pt x="11733" y="14536"/>
                </a:cubicBezTo>
                <a:cubicBezTo>
                  <a:pt x="11727" y="14566"/>
                  <a:pt x="11737" y="14764"/>
                  <a:pt x="11807" y="14684"/>
                </a:cubicBezTo>
                <a:cubicBezTo>
                  <a:pt x="11821" y="14668"/>
                  <a:pt x="11836" y="14483"/>
                  <a:pt x="11782" y="14536"/>
                </a:cubicBezTo>
                <a:cubicBezTo>
                  <a:pt x="11758" y="14584"/>
                  <a:pt x="11749" y="14598"/>
                  <a:pt x="11757" y="14635"/>
                </a:cubicBezTo>
                <a:cubicBezTo>
                  <a:pt x="11828" y="14617"/>
                  <a:pt x="11805" y="14598"/>
                  <a:pt x="11832" y="145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89240" y="1152360"/>
            <a:ext cx="142920" cy="177840"/>
          </a:xfrm>
          <a:custGeom>
            <a:avLst/>
            <a:gdLst/>
            <a:ahLst/>
            <a:rect l="l" t="t" r="r" b="b"/>
            <a:pathLst>
              <a:path w="397" h="497">
                <a:moveTo>
                  <a:pt x="11435" y="3200"/>
                </a:moveTo>
                <a:cubicBezTo>
                  <a:pt x="11590" y="3270"/>
                  <a:pt x="11873" y="3412"/>
                  <a:pt x="11658" y="3621"/>
                </a:cubicBezTo>
                <a:cubicBezTo>
                  <a:pt x="11522" y="3690"/>
                  <a:pt x="11486" y="3715"/>
                  <a:pt x="11385" y="3696"/>
                </a:cubicBezTo>
                <a:cubicBezTo>
                  <a:pt x="11352" y="3542"/>
                  <a:pt x="11506" y="3463"/>
                  <a:pt x="11658" y="3547"/>
                </a:cubicBezTo>
                <a:cubicBezTo>
                  <a:pt x="11719" y="3628"/>
                  <a:pt x="11734" y="3640"/>
                  <a:pt x="11757" y="36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1116000"/>
            <a:ext cx="161640" cy="179280"/>
          </a:xfrm>
          <a:custGeom>
            <a:avLst/>
            <a:gdLst/>
            <a:ahLst/>
            <a:rect l="l" t="t" r="r" b="b"/>
            <a:pathLst>
              <a:path w="448" h="497">
                <a:moveTo>
                  <a:pt x="12278" y="3150"/>
                </a:moveTo>
                <a:cubicBezTo>
                  <a:pt x="12422" y="3150"/>
                  <a:pt x="12558" y="3121"/>
                  <a:pt x="12700" y="3101"/>
                </a:cubicBezTo>
                <a:cubicBezTo>
                  <a:pt x="12708" y="3101"/>
                  <a:pt x="12717" y="3101"/>
                  <a:pt x="12725" y="3101"/>
                </a:cubicBezTo>
                <a:cubicBezTo>
                  <a:pt x="12708" y="3272"/>
                  <a:pt x="12461" y="3498"/>
                  <a:pt x="12601" y="3597"/>
                </a:cubicBezTo>
                <a:cubicBezTo>
                  <a:pt x="12626" y="3589"/>
                  <a:pt x="12650" y="3580"/>
                  <a:pt x="12675" y="35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70280" y="1081080"/>
            <a:ext cx="169920" cy="231840"/>
          </a:xfrm>
          <a:custGeom>
            <a:avLst/>
            <a:gdLst/>
            <a:ahLst/>
            <a:rect l="l" t="t" r="r" b="b"/>
            <a:pathLst>
              <a:path w="472" h="646">
                <a:moveTo>
                  <a:pt x="13370" y="3001"/>
                </a:moveTo>
                <a:cubicBezTo>
                  <a:pt x="13247" y="3001"/>
                  <a:pt x="13223" y="2979"/>
                  <a:pt x="13146" y="3076"/>
                </a:cubicBezTo>
                <a:cubicBezTo>
                  <a:pt x="13083" y="3156"/>
                  <a:pt x="13025" y="3237"/>
                  <a:pt x="12973" y="3324"/>
                </a:cubicBezTo>
                <a:cubicBezTo>
                  <a:pt x="13127" y="3324"/>
                  <a:pt x="13267" y="3310"/>
                  <a:pt x="13419" y="3324"/>
                </a:cubicBezTo>
                <a:cubicBezTo>
                  <a:pt x="13420" y="3584"/>
                  <a:pt x="13252" y="3592"/>
                  <a:pt x="13022" y="36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56040" y="1170000"/>
            <a:ext cx="17640" cy="187200"/>
          </a:xfrm>
          <a:custGeom>
            <a:avLst/>
            <a:gdLst/>
            <a:ahLst/>
            <a:rect l="l" t="t" r="r" b="b"/>
            <a:pathLst>
              <a:path w="51" h="522">
                <a:moveTo>
                  <a:pt x="11038" y="3274"/>
                </a:moveTo>
                <a:cubicBezTo>
                  <a:pt x="11038" y="3182"/>
                  <a:pt x="11018" y="3406"/>
                  <a:pt x="11013" y="3497"/>
                </a:cubicBezTo>
                <a:cubicBezTo>
                  <a:pt x="11007" y="3601"/>
                  <a:pt x="11002" y="3670"/>
                  <a:pt x="10988" y="37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21080" y="1527120"/>
            <a:ext cx="36720" cy="36720"/>
          </a:xfrm>
          <a:custGeom>
            <a:avLst/>
            <a:gdLst/>
            <a:ahLst/>
            <a:rect l="l" t="t" r="r" b="b"/>
            <a:pathLst>
              <a:path w="101" h="100">
                <a:moveTo>
                  <a:pt x="12055" y="4266"/>
                </a:moveTo>
                <a:cubicBezTo>
                  <a:pt x="12063" y="4258"/>
                  <a:pt x="12072" y="4250"/>
                  <a:pt x="12080" y="4242"/>
                </a:cubicBezTo>
                <a:cubicBezTo>
                  <a:pt x="12053" y="4248"/>
                  <a:pt x="11957" y="4341"/>
                  <a:pt x="12030" y="4341"/>
                </a:cubicBezTo>
                <a:cubicBezTo>
                  <a:pt x="12068" y="4303"/>
                  <a:pt x="12086" y="4280"/>
                  <a:pt x="12105" y="42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89240" y="1428840"/>
            <a:ext cx="90720" cy="214200"/>
          </a:xfrm>
          <a:custGeom>
            <a:avLst/>
            <a:gdLst/>
            <a:ahLst/>
            <a:rect l="l" t="t" r="r" b="b"/>
            <a:pathLst>
              <a:path w="249" h="596">
                <a:moveTo>
                  <a:pt x="11410" y="4043"/>
                </a:moveTo>
                <a:cubicBezTo>
                  <a:pt x="11486" y="3948"/>
                  <a:pt x="11600" y="3937"/>
                  <a:pt x="11559" y="4118"/>
                </a:cubicBezTo>
                <a:cubicBezTo>
                  <a:pt x="11542" y="4151"/>
                  <a:pt x="11526" y="4184"/>
                  <a:pt x="11509" y="4217"/>
                </a:cubicBezTo>
                <a:cubicBezTo>
                  <a:pt x="11501" y="4225"/>
                  <a:pt x="11493" y="4234"/>
                  <a:pt x="11485" y="4242"/>
                </a:cubicBezTo>
                <a:cubicBezTo>
                  <a:pt x="11579" y="4123"/>
                  <a:pt x="11643" y="4185"/>
                  <a:pt x="11609" y="4341"/>
                </a:cubicBezTo>
                <a:cubicBezTo>
                  <a:pt x="11583" y="4462"/>
                  <a:pt x="11431" y="4655"/>
                  <a:pt x="11361" y="45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64000" y="1330200"/>
            <a:ext cx="100080" cy="152640"/>
          </a:xfrm>
          <a:custGeom>
            <a:avLst/>
            <a:gdLst/>
            <a:ahLst/>
            <a:rect l="l" t="t" r="r" b="b"/>
            <a:pathLst>
              <a:path w="274" h="423">
                <a:moveTo>
                  <a:pt x="12452" y="3696"/>
                </a:moveTo>
                <a:cubicBezTo>
                  <a:pt x="12403" y="3831"/>
                  <a:pt x="12402" y="3949"/>
                  <a:pt x="12402" y="4093"/>
                </a:cubicBezTo>
                <a:cubicBezTo>
                  <a:pt x="12402" y="4227"/>
                  <a:pt x="12667" y="3976"/>
                  <a:pt x="12675" y="39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00720" y="1320840"/>
            <a:ext cx="27000" cy="277920"/>
          </a:xfrm>
          <a:custGeom>
            <a:avLst/>
            <a:gdLst/>
            <a:ahLst/>
            <a:rect l="l" t="t" r="r" b="b"/>
            <a:pathLst>
              <a:path w="75" h="770">
                <a:moveTo>
                  <a:pt x="12576" y="3671"/>
                </a:moveTo>
                <a:cubicBezTo>
                  <a:pt x="12554" y="3890"/>
                  <a:pt x="12620" y="4213"/>
                  <a:pt x="12551" y="4415"/>
                </a:cubicBezTo>
                <a:cubicBezTo>
                  <a:pt x="12535" y="4423"/>
                  <a:pt x="12518" y="4432"/>
                  <a:pt x="12502" y="44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57760" y="1473120"/>
            <a:ext cx="27000" cy="108000"/>
          </a:xfrm>
          <a:custGeom>
            <a:avLst/>
            <a:gdLst/>
            <a:ahLst/>
            <a:rect l="l" t="t" r="r" b="b"/>
            <a:pathLst>
              <a:path w="75" h="298">
                <a:moveTo>
                  <a:pt x="10716" y="4093"/>
                </a:moveTo>
                <a:cubicBezTo>
                  <a:pt x="10729" y="4194"/>
                  <a:pt x="10799" y="4365"/>
                  <a:pt x="10765" y="4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87840" y="1633680"/>
            <a:ext cx="1027080" cy="117360"/>
          </a:xfrm>
          <a:custGeom>
            <a:avLst/>
            <a:gdLst/>
            <a:ahLst/>
            <a:rect l="l" t="t" r="r" b="b"/>
            <a:pathLst>
              <a:path w="2854" h="324">
                <a:moveTo>
                  <a:pt x="10244" y="4862"/>
                </a:moveTo>
                <a:cubicBezTo>
                  <a:pt x="10605" y="4845"/>
                  <a:pt x="10979" y="4822"/>
                  <a:pt x="11336" y="4762"/>
                </a:cubicBezTo>
                <a:cubicBezTo>
                  <a:pt x="11866" y="4673"/>
                  <a:pt x="12359" y="4571"/>
                  <a:pt x="12898" y="4564"/>
                </a:cubicBezTo>
                <a:cubicBezTo>
                  <a:pt x="13053" y="4562"/>
                  <a:pt x="13037" y="4557"/>
                  <a:pt x="13097" y="45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0000" y="1411200"/>
            <a:ext cx="79200" cy="177840"/>
          </a:xfrm>
          <a:custGeom>
            <a:avLst/>
            <a:gdLst/>
            <a:ahLst/>
            <a:rect l="l" t="t" r="r" b="b"/>
            <a:pathLst>
              <a:path w="224" h="497">
                <a:moveTo>
                  <a:pt x="13097" y="3919"/>
                </a:moveTo>
                <a:cubicBezTo>
                  <a:pt x="13041" y="4019"/>
                  <a:pt x="12933" y="4273"/>
                  <a:pt x="12998" y="4390"/>
                </a:cubicBezTo>
                <a:cubicBezTo>
                  <a:pt x="13023" y="4398"/>
                  <a:pt x="13047" y="4407"/>
                  <a:pt x="13072" y="4415"/>
                </a:cubicBezTo>
                <a:cubicBezTo>
                  <a:pt x="13137" y="4334"/>
                  <a:pt x="13372" y="4049"/>
                  <a:pt x="13146" y="3994"/>
                </a:cubicBezTo>
                <a:cubicBezTo>
                  <a:pt x="13113" y="4002"/>
                  <a:pt x="13080" y="4010"/>
                  <a:pt x="13047" y="40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46680" y="1517760"/>
            <a:ext cx="80640" cy="152280"/>
          </a:xfrm>
          <a:custGeom>
            <a:avLst/>
            <a:gdLst/>
            <a:ahLst/>
            <a:rect l="l" t="t" r="r" b="b"/>
            <a:pathLst>
              <a:path w="224" h="422">
                <a:moveTo>
                  <a:pt x="11063" y="4242"/>
                </a:moveTo>
                <a:cubicBezTo>
                  <a:pt x="10986" y="4379"/>
                  <a:pt x="10968" y="4487"/>
                  <a:pt x="10988" y="4638"/>
                </a:cubicBezTo>
                <a:cubicBezTo>
                  <a:pt x="11110" y="4573"/>
                  <a:pt x="11269" y="4439"/>
                  <a:pt x="11187" y="4266"/>
                </a:cubicBezTo>
                <a:cubicBezTo>
                  <a:pt x="11130" y="4229"/>
                  <a:pt x="11127" y="4213"/>
                  <a:pt x="11088" y="42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60920" y="1687680"/>
            <a:ext cx="125280" cy="196560"/>
          </a:xfrm>
          <a:custGeom>
            <a:avLst/>
            <a:gdLst/>
            <a:ahLst/>
            <a:rect l="l" t="t" r="r" b="b"/>
            <a:pathLst>
              <a:path w="348" h="547">
                <a:moveTo>
                  <a:pt x="13246" y="4688"/>
                </a:moveTo>
                <a:cubicBezTo>
                  <a:pt x="13184" y="4700"/>
                  <a:pt x="13128" y="4742"/>
                  <a:pt x="13072" y="4762"/>
                </a:cubicBezTo>
                <a:cubicBezTo>
                  <a:pt x="13000" y="4788"/>
                  <a:pt x="13022" y="4916"/>
                  <a:pt x="13022" y="4986"/>
                </a:cubicBezTo>
                <a:cubicBezTo>
                  <a:pt x="13108" y="4972"/>
                  <a:pt x="13183" y="4943"/>
                  <a:pt x="13271" y="4936"/>
                </a:cubicBezTo>
                <a:cubicBezTo>
                  <a:pt x="13293" y="5122"/>
                  <a:pt x="13260" y="5149"/>
                  <a:pt x="13072" y="5209"/>
                </a:cubicBezTo>
                <a:cubicBezTo>
                  <a:pt x="13031" y="5217"/>
                  <a:pt x="12989" y="5226"/>
                  <a:pt x="12948" y="52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10080" y="1751040"/>
            <a:ext cx="7920" cy="187200"/>
          </a:xfrm>
          <a:custGeom>
            <a:avLst/>
            <a:gdLst/>
            <a:ahLst/>
            <a:rect l="l" t="t" r="r" b="b"/>
            <a:pathLst>
              <a:path w="26" h="522">
                <a:moveTo>
                  <a:pt x="12551" y="4862"/>
                </a:moveTo>
                <a:cubicBezTo>
                  <a:pt x="12491" y="5000"/>
                  <a:pt x="12526" y="5199"/>
                  <a:pt x="12526" y="5358"/>
                </a:cubicBezTo>
                <a:cubicBezTo>
                  <a:pt x="12526" y="5366"/>
                  <a:pt x="12526" y="5375"/>
                  <a:pt x="12526" y="53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70240" y="892080"/>
            <a:ext cx="9720" cy="127080"/>
          </a:xfrm>
          <a:custGeom>
            <a:avLst/>
            <a:gdLst/>
            <a:ahLst/>
            <a:rect l="l" t="t" r="r" b="b"/>
            <a:pathLst>
              <a:path w="26" h="349">
                <a:moveTo>
                  <a:pt x="11584" y="2480"/>
                </a:moveTo>
                <a:cubicBezTo>
                  <a:pt x="11596" y="2597"/>
                  <a:pt x="11609" y="2708"/>
                  <a:pt x="11609" y="28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98960" y="1768320"/>
            <a:ext cx="133200" cy="204840"/>
          </a:xfrm>
          <a:custGeom>
            <a:avLst/>
            <a:gdLst/>
            <a:ahLst/>
            <a:rect l="l" t="t" r="r" b="b"/>
            <a:pathLst>
              <a:path w="373" h="572">
                <a:moveTo>
                  <a:pt x="11485" y="4911"/>
                </a:moveTo>
                <a:cubicBezTo>
                  <a:pt x="11459" y="5041"/>
                  <a:pt x="11439" y="5172"/>
                  <a:pt x="11410" y="5308"/>
                </a:cubicBezTo>
                <a:cubicBezTo>
                  <a:pt x="11390" y="5409"/>
                  <a:pt x="11371" y="5429"/>
                  <a:pt x="11410" y="5482"/>
                </a:cubicBezTo>
                <a:cubicBezTo>
                  <a:pt x="11562" y="5467"/>
                  <a:pt x="11666" y="5431"/>
                  <a:pt x="11733" y="5283"/>
                </a:cubicBezTo>
                <a:cubicBezTo>
                  <a:pt x="11754" y="5195"/>
                  <a:pt x="11770" y="5169"/>
                  <a:pt x="11708" y="5135"/>
                </a:cubicBezTo>
                <a:cubicBezTo>
                  <a:pt x="11582" y="5182"/>
                  <a:pt x="11599" y="5275"/>
                  <a:pt x="11584" y="5407"/>
                </a:cubicBezTo>
                <a:cubicBezTo>
                  <a:pt x="11584" y="5399"/>
                  <a:pt x="11584" y="5391"/>
                  <a:pt x="11584" y="53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38760" y="1803240"/>
            <a:ext cx="17280" cy="169920"/>
          </a:xfrm>
          <a:custGeom>
            <a:avLst/>
            <a:gdLst/>
            <a:ahLst/>
            <a:rect l="l" t="t" r="r" b="b"/>
            <a:pathLst>
              <a:path w="50" h="472">
                <a:moveTo>
                  <a:pt x="10939" y="5011"/>
                </a:moveTo>
                <a:cubicBezTo>
                  <a:pt x="10959" y="5152"/>
                  <a:pt x="10964" y="5288"/>
                  <a:pt x="10964" y="5432"/>
                </a:cubicBezTo>
                <a:cubicBezTo>
                  <a:pt x="10964" y="5473"/>
                  <a:pt x="10955" y="5490"/>
                  <a:pt x="10988" y="54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40160" y="1874880"/>
            <a:ext cx="17640" cy="46080"/>
          </a:xfrm>
          <a:custGeom>
            <a:avLst/>
            <a:gdLst/>
            <a:ahLst/>
            <a:rect l="l" t="t" r="r" b="b"/>
            <a:pathLst>
              <a:path w="51" h="125">
                <a:moveTo>
                  <a:pt x="12105" y="5308"/>
                </a:moveTo>
                <a:cubicBezTo>
                  <a:pt x="12093" y="5285"/>
                  <a:pt x="12041" y="5313"/>
                  <a:pt x="12105" y="5209"/>
                </a:cubicBezTo>
                <a:cubicBezTo>
                  <a:pt x="12139" y="5154"/>
                  <a:pt x="12043" y="5329"/>
                  <a:pt x="12105" y="53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16040" y="4044960"/>
            <a:ext cx="27000" cy="27000"/>
          </a:xfrm>
          <a:custGeom>
            <a:avLst/>
            <a:gdLst/>
            <a:ahLst/>
            <a:rect l="l" t="t" r="r" b="b"/>
            <a:pathLst>
              <a:path w="75" h="75">
                <a:moveTo>
                  <a:pt x="4564" y="11261"/>
                </a:moveTo>
                <a:cubicBezTo>
                  <a:pt x="4551" y="11222"/>
                  <a:pt x="4539" y="11352"/>
                  <a:pt x="4539" y="11311"/>
                </a:cubicBezTo>
                <a:cubicBezTo>
                  <a:pt x="4539" y="11254"/>
                  <a:pt x="4523" y="11269"/>
                  <a:pt x="4490" y="11286"/>
                </a:cubicBezTo>
                <a:cubicBezTo>
                  <a:pt x="4500" y="11317"/>
                  <a:pt x="4514" y="11228"/>
                  <a:pt x="4514" y="11261"/>
                </a:cubicBezTo>
                <a:cubicBezTo>
                  <a:pt x="4514" y="11298"/>
                  <a:pt x="4539" y="11224"/>
                  <a:pt x="4539" y="11261"/>
                </a:cubicBezTo>
                <a:cubicBezTo>
                  <a:pt x="4539" y="11269"/>
                  <a:pt x="4539" y="11278"/>
                  <a:pt x="4539" y="112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87800" y="4768920"/>
            <a:ext cx="2340000" cy="223920"/>
          </a:xfrm>
          <a:custGeom>
            <a:avLst/>
            <a:gdLst/>
            <a:ahLst/>
            <a:rect l="l" t="t" r="r" b="b"/>
            <a:pathLst>
              <a:path w="6500" h="621">
                <a:moveTo>
                  <a:pt x="8855" y="13866"/>
                </a:moveTo>
                <a:cubicBezTo>
                  <a:pt x="9359" y="13780"/>
                  <a:pt x="9861" y="13691"/>
                  <a:pt x="10368" y="13618"/>
                </a:cubicBezTo>
                <a:cubicBezTo>
                  <a:pt x="11963" y="13388"/>
                  <a:pt x="13615" y="13190"/>
                  <a:pt x="15230" y="13246"/>
                </a:cubicBezTo>
                <a:cubicBezTo>
                  <a:pt x="15345" y="13269"/>
                  <a:pt x="15396" y="13278"/>
                  <a:pt x="15255" y="132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6400800" cy="2032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Unit 5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Expressions, Equations and Integers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jective: Students will read, write and represent integ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jective: Students will read, write and represent integ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19320" y="971640"/>
            <a:ext cx="723888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Integers are often used to represent real-world quantities {…, -3, -2, -1, 0 , 1, 2, 3, ...}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Positive Integers: Integers that are greater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than 0. (words like: profit, increase, gain and above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indicate positive integers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Negative Integers: Integers that are less than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(Words like: loss, decrease, and below indicate a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negative integer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Opposites: Two integers that are the same distance from 0 on a number line (25 and -25 for example, since both are 25 units from 0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bsolute Value:  Distance from zer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1785960" y="1820880"/>
            <a:ext cx="1581120" cy="331920"/>
          </a:xfrm>
          <a:custGeom>
            <a:avLst/>
            <a:gdLst/>
            <a:ahLst/>
            <a:rect l="l" t="t" r="r" b="b"/>
            <a:pathLst>
              <a:path w="4391" h="919">
                <a:moveTo>
                  <a:pt x="5035" y="5259"/>
                </a:moveTo>
                <a:cubicBezTo>
                  <a:pt x="5048" y="5254"/>
                  <a:pt x="5089" y="5234"/>
                  <a:pt x="5135" y="5234"/>
                </a:cubicBezTo>
                <a:cubicBezTo>
                  <a:pt x="5214" y="5234"/>
                  <a:pt x="5340" y="5201"/>
                  <a:pt x="5407" y="5209"/>
                </a:cubicBezTo>
                <a:cubicBezTo>
                  <a:pt x="5476" y="5217"/>
                  <a:pt x="5456" y="5216"/>
                  <a:pt x="5531" y="5209"/>
                </a:cubicBezTo>
                <a:cubicBezTo>
                  <a:pt x="5583" y="5204"/>
                  <a:pt x="5673" y="5238"/>
                  <a:pt x="5705" y="5234"/>
                </a:cubicBezTo>
                <a:cubicBezTo>
                  <a:pt x="5748" y="5229"/>
                  <a:pt x="5768" y="5192"/>
                  <a:pt x="5829" y="5209"/>
                </a:cubicBezTo>
                <a:cubicBezTo>
                  <a:pt x="5890" y="5226"/>
                  <a:pt x="5941" y="5220"/>
                  <a:pt x="6003" y="5234"/>
                </a:cubicBezTo>
                <a:cubicBezTo>
                  <a:pt x="6085" y="5252"/>
                  <a:pt x="6140" y="5259"/>
                  <a:pt x="6226" y="5259"/>
                </a:cubicBezTo>
                <a:cubicBezTo>
                  <a:pt x="6411" y="5259"/>
                  <a:pt x="6595" y="5256"/>
                  <a:pt x="6772" y="5234"/>
                </a:cubicBezTo>
                <a:cubicBezTo>
                  <a:pt x="6864" y="5222"/>
                  <a:pt x="6957" y="5195"/>
                  <a:pt x="7045" y="5184"/>
                </a:cubicBezTo>
                <a:cubicBezTo>
                  <a:pt x="7095" y="5178"/>
                  <a:pt x="7126" y="5166"/>
                  <a:pt x="7169" y="5159"/>
                </a:cubicBezTo>
                <a:cubicBezTo>
                  <a:pt x="7261" y="5143"/>
                  <a:pt x="7365" y="5171"/>
                  <a:pt x="7441" y="5184"/>
                </a:cubicBezTo>
                <a:cubicBezTo>
                  <a:pt x="7520" y="5197"/>
                  <a:pt x="7466" y="5192"/>
                  <a:pt x="7417" y="5184"/>
                </a:cubicBezTo>
                <a:cubicBezTo>
                  <a:pt x="7276" y="5162"/>
                  <a:pt x="7137" y="5139"/>
                  <a:pt x="6995" y="5135"/>
                </a:cubicBezTo>
                <a:cubicBezTo>
                  <a:pt x="6900" y="5132"/>
                  <a:pt x="6819" y="5110"/>
                  <a:pt x="6722" y="5110"/>
                </a:cubicBezTo>
                <a:cubicBezTo>
                  <a:pt x="6649" y="5110"/>
                  <a:pt x="6592" y="5071"/>
                  <a:pt x="6524" y="5060"/>
                </a:cubicBezTo>
                <a:cubicBezTo>
                  <a:pt x="6392" y="5038"/>
                  <a:pt x="6254" y="5073"/>
                  <a:pt x="6127" y="5085"/>
                </a:cubicBezTo>
                <a:cubicBezTo>
                  <a:pt x="6008" y="5096"/>
                  <a:pt x="5895" y="5119"/>
                  <a:pt x="5779" y="5135"/>
                </a:cubicBezTo>
                <a:cubicBezTo>
                  <a:pt x="5679" y="5149"/>
                  <a:pt x="5582" y="5161"/>
                  <a:pt x="5482" y="5184"/>
                </a:cubicBezTo>
                <a:cubicBezTo>
                  <a:pt x="5367" y="5211"/>
                  <a:pt x="5250" y="5243"/>
                  <a:pt x="5135" y="5259"/>
                </a:cubicBezTo>
                <a:cubicBezTo>
                  <a:pt x="5079" y="5267"/>
                  <a:pt x="5018" y="5259"/>
                  <a:pt x="4961" y="5259"/>
                </a:cubicBezTo>
              </a:path>
              <a:path w="4391" h="919">
                <a:moveTo>
                  <a:pt x="6499" y="5953"/>
                </a:moveTo>
                <a:cubicBezTo>
                  <a:pt x="6581" y="5953"/>
                  <a:pt x="6646" y="5965"/>
                  <a:pt x="6722" y="5978"/>
                </a:cubicBezTo>
                <a:cubicBezTo>
                  <a:pt x="6955" y="6017"/>
                  <a:pt x="7240" y="5978"/>
                  <a:pt x="7466" y="5953"/>
                </a:cubicBezTo>
                <a:cubicBezTo>
                  <a:pt x="7565" y="5942"/>
                  <a:pt x="7668" y="5954"/>
                  <a:pt x="7764" y="5928"/>
                </a:cubicBezTo>
                <a:cubicBezTo>
                  <a:pt x="7865" y="5901"/>
                  <a:pt x="7981" y="5882"/>
                  <a:pt x="8086" y="5879"/>
                </a:cubicBezTo>
                <a:cubicBezTo>
                  <a:pt x="8239" y="5875"/>
                  <a:pt x="8406" y="5873"/>
                  <a:pt x="8558" y="5854"/>
                </a:cubicBezTo>
                <a:cubicBezTo>
                  <a:pt x="8654" y="5842"/>
                  <a:pt x="8817" y="5792"/>
                  <a:pt x="8905" y="5804"/>
                </a:cubicBezTo>
                <a:cubicBezTo>
                  <a:pt x="8960" y="5811"/>
                  <a:pt x="8929" y="5825"/>
                  <a:pt x="9029" y="5829"/>
                </a:cubicBezTo>
                <a:cubicBezTo>
                  <a:pt x="9097" y="5832"/>
                  <a:pt x="9399" y="5829"/>
                  <a:pt x="9302" y="58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35080" y="2394000"/>
            <a:ext cx="2849760" cy="1500120"/>
          </a:xfrm>
          <a:custGeom>
            <a:avLst/>
            <a:gdLst/>
            <a:ahLst/>
            <a:rect l="l" t="t" r="r" b="b"/>
            <a:pathLst>
              <a:path w="7914" h="4168">
                <a:moveTo>
                  <a:pt x="5655" y="6648"/>
                </a:moveTo>
                <a:lnTo>
                  <a:pt x="5655" y="6648"/>
                </a:lnTo>
              </a:path>
              <a:path w="7914" h="4168">
                <a:moveTo>
                  <a:pt x="13568" y="10815"/>
                </a:moveTo>
                <a:lnTo>
                  <a:pt x="13568" y="10815"/>
                </a:lnTo>
              </a:path>
              <a:path w="7914" h="4168">
                <a:moveTo>
                  <a:pt x="13568" y="10815"/>
                </a:moveTo>
                <a:cubicBezTo>
                  <a:pt x="13568" y="10807"/>
                  <a:pt x="13568" y="10798"/>
                  <a:pt x="13568" y="107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35040" y="3205080"/>
            <a:ext cx="3430800" cy="3135240"/>
          </a:xfrm>
          <a:custGeom>
            <a:avLst/>
            <a:gdLst/>
            <a:ahLst/>
            <a:rect l="l" t="t" r="r" b="b"/>
            <a:pathLst>
              <a:path w="9526" h="8707">
                <a:moveTo>
                  <a:pt x="11931" y="15255"/>
                </a:moveTo>
                <a:cubicBezTo>
                  <a:pt x="11931" y="15247"/>
                  <a:pt x="11931" y="15238"/>
                  <a:pt x="11931" y="15230"/>
                </a:cubicBezTo>
              </a:path>
              <a:path w="9526" h="8707">
                <a:moveTo>
                  <a:pt x="11385" y="8905"/>
                </a:moveTo>
                <a:cubicBezTo>
                  <a:pt x="11393" y="8905"/>
                  <a:pt x="11402" y="8905"/>
                  <a:pt x="11410" y="8905"/>
                </a:cubicBezTo>
              </a:path>
              <a:path w="9526" h="8707">
                <a:moveTo>
                  <a:pt x="11286" y="17611"/>
                </a:moveTo>
                <a:lnTo>
                  <a:pt x="11286" y="17611"/>
                </a:lnTo>
              </a:path>
              <a:path w="9526" h="8707">
                <a:moveTo>
                  <a:pt x="9451" y="15825"/>
                </a:moveTo>
                <a:cubicBezTo>
                  <a:pt x="9484" y="15860"/>
                  <a:pt x="9506" y="15868"/>
                  <a:pt x="9550" y="15850"/>
                </a:cubicBezTo>
              </a:path>
              <a:path w="9526" h="8707">
                <a:moveTo>
                  <a:pt x="4266" y="15404"/>
                </a:moveTo>
                <a:cubicBezTo>
                  <a:pt x="4383" y="15300"/>
                  <a:pt x="4485" y="15200"/>
                  <a:pt x="4638" y="15156"/>
                </a:cubicBezTo>
              </a:path>
              <a:path w="9526" h="8707">
                <a:moveTo>
                  <a:pt x="9575" y="14759"/>
                </a:moveTo>
                <a:cubicBezTo>
                  <a:pt x="9691" y="14736"/>
                  <a:pt x="9724" y="14729"/>
                  <a:pt x="9798" y="14709"/>
                </a:cubicBezTo>
              </a:path>
              <a:path w="9526" h="8707">
                <a:moveTo>
                  <a:pt x="11162" y="14709"/>
                </a:moveTo>
                <a:cubicBezTo>
                  <a:pt x="11212" y="14867"/>
                  <a:pt x="11217" y="14947"/>
                  <a:pt x="11385" y="14932"/>
                </a:cubicBezTo>
              </a:path>
              <a:path w="9526" h="8707">
                <a:moveTo>
                  <a:pt x="13419" y="14908"/>
                </a:moveTo>
                <a:lnTo>
                  <a:pt x="13419" y="14908"/>
                </a:lnTo>
              </a:path>
              <a:path w="9526" h="8707">
                <a:moveTo>
                  <a:pt x="13395" y="14511"/>
                </a:moveTo>
                <a:cubicBezTo>
                  <a:pt x="13395" y="14503"/>
                  <a:pt x="13395" y="14494"/>
                  <a:pt x="13395" y="14486"/>
                </a:cubicBezTo>
              </a:path>
              <a:path w="9526" h="8707">
                <a:moveTo>
                  <a:pt x="13791" y="14461"/>
                </a:moveTo>
                <a:cubicBezTo>
                  <a:pt x="13791" y="14469"/>
                  <a:pt x="13791" y="14478"/>
                  <a:pt x="13791" y="14486"/>
                </a:cubicBezTo>
              </a:path>
              <a:path w="9526" h="8707">
                <a:moveTo>
                  <a:pt x="13791" y="14486"/>
                </a:moveTo>
                <a:lnTo>
                  <a:pt x="13791" y="1448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8760" y="4776840"/>
            <a:ext cx="1197000" cy="814320"/>
          </a:xfrm>
          <a:custGeom>
            <a:avLst/>
            <a:gdLst/>
            <a:ahLst/>
            <a:rect l="l" t="t" r="r" b="b"/>
            <a:pathLst>
              <a:path w="3324" h="2258">
                <a:moveTo>
                  <a:pt x="4440" y="15156"/>
                </a:moveTo>
                <a:cubicBezTo>
                  <a:pt x="4369" y="15179"/>
                  <a:pt x="4477" y="15385"/>
                  <a:pt x="4490" y="15429"/>
                </a:cubicBezTo>
                <a:cubicBezTo>
                  <a:pt x="4498" y="15462"/>
                  <a:pt x="4506" y="15495"/>
                  <a:pt x="4514" y="15528"/>
                </a:cubicBezTo>
              </a:path>
              <a:path w="3324" h="2258">
                <a:moveTo>
                  <a:pt x="1191" y="13345"/>
                </a:moveTo>
                <a:cubicBezTo>
                  <a:pt x="1191" y="13178"/>
                  <a:pt x="1214" y="13624"/>
                  <a:pt x="1215" y="13791"/>
                </a:cubicBezTo>
                <a:cubicBezTo>
                  <a:pt x="1217" y="13996"/>
                  <a:pt x="1191" y="14186"/>
                  <a:pt x="1191" y="14387"/>
                </a:cubicBezTo>
              </a:path>
              <a:path w="3324" h="2258">
                <a:moveTo>
                  <a:pt x="1563" y="13767"/>
                </a:moveTo>
                <a:cubicBezTo>
                  <a:pt x="1638" y="13748"/>
                  <a:pt x="1726" y="13730"/>
                  <a:pt x="1811" y="13717"/>
                </a:cubicBezTo>
                <a:cubicBezTo>
                  <a:pt x="1836" y="13717"/>
                  <a:pt x="1844" y="13717"/>
                  <a:pt x="1836" y="13742"/>
                </a:cubicBezTo>
              </a:path>
              <a:path w="3324" h="2258">
                <a:moveTo>
                  <a:pt x="2084" y="13519"/>
                </a:moveTo>
                <a:cubicBezTo>
                  <a:pt x="2102" y="13743"/>
                  <a:pt x="2126" y="13964"/>
                  <a:pt x="2133" y="14188"/>
                </a:cubicBezTo>
                <a:cubicBezTo>
                  <a:pt x="2133" y="14213"/>
                  <a:pt x="2133" y="14221"/>
                  <a:pt x="2133" y="14188"/>
                </a:cubicBezTo>
              </a:path>
              <a:path w="3324" h="2258">
                <a:moveTo>
                  <a:pt x="2406" y="13543"/>
                </a:moveTo>
                <a:cubicBezTo>
                  <a:pt x="2447" y="13493"/>
                  <a:pt x="2630" y="13383"/>
                  <a:pt x="2654" y="13543"/>
                </a:cubicBezTo>
                <a:cubicBezTo>
                  <a:pt x="2628" y="13673"/>
                  <a:pt x="2616" y="13719"/>
                  <a:pt x="2555" y="13791"/>
                </a:cubicBezTo>
                <a:cubicBezTo>
                  <a:pt x="2547" y="13791"/>
                  <a:pt x="2538" y="13791"/>
                  <a:pt x="2530" y="13791"/>
                </a:cubicBezTo>
                <a:cubicBezTo>
                  <a:pt x="2718" y="13699"/>
                  <a:pt x="2741" y="13873"/>
                  <a:pt x="2654" y="14039"/>
                </a:cubicBezTo>
                <a:cubicBezTo>
                  <a:pt x="2560" y="14218"/>
                  <a:pt x="2445" y="14210"/>
                  <a:pt x="2307" y="14114"/>
                </a:cubicBezTo>
              </a:path>
              <a:path w="3324" h="2258">
                <a:moveTo>
                  <a:pt x="2853" y="13271"/>
                </a:moveTo>
                <a:cubicBezTo>
                  <a:pt x="2853" y="13643"/>
                  <a:pt x="2853" y="14709"/>
                  <a:pt x="2853" y="14337"/>
                </a:cubicBezTo>
                <a:cubicBezTo>
                  <a:pt x="2853" y="14321"/>
                  <a:pt x="2853" y="14304"/>
                  <a:pt x="2853" y="14288"/>
                </a:cubicBezTo>
              </a:path>
              <a:path w="3324" h="2258">
                <a:moveTo>
                  <a:pt x="3175" y="13866"/>
                </a:moveTo>
                <a:cubicBezTo>
                  <a:pt x="3244" y="13854"/>
                  <a:pt x="3301" y="13841"/>
                  <a:pt x="3373" y="13841"/>
                </a:cubicBezTo>
              </a:path>
              <a:path w="3324" h="2258">
                <a:moveTo>
                  <a:pt x="3125" y="13965"/>
                </a:moveTo>
                <a:cubicBezTo>
                  <a:pt x="3200" y="13965"/>
                  <a:pt x="3274" y="13965"/>
                  <a:pt x="3349" y="13965"/>
                </a:cubicBezTo>
              </a:path>
              <a:path w="3324" h="2258">
                <a:moveTo>
                  <a:pt x="3696" y="13593"/>
                </a:moveTo>
                <a:cubicBezTo>
                  <a:pt x="3683" y="13777"/>
                  <a:pt x="3671" y="13954"/>
                  <a:pt x="3671" y="14139"/>
                </a:cubicBezTo>
                <a:cubicBezTo>
                  <a:pt x="3671" y="14188"/>
                  <a:pt x="3671" y="14171"/>
                  <a:pt x="3671" y="14064"/>
                </a:cubicBezTo>
              </a:path>
              <a:path w="3324" h="2258">
                <a:moveTo>
                  <a:pt x="3870" y="13618"/>
                </a:moveTo>
                <a:cubicBezTo>
                  <a:pt x="3935" y="13596"/>
                  <a:pt x="3999" y="13566"/>
                  <a:pt x="4068" y="13543"/>
                </a:cubicBezTo>
                <a:cubicBezTo>
                  <a:pt x="4054" y="13700"/>
                  <a:pt x="4003" y="13765"/>
                  <a:pt x="3919" y="13891"/>
                </a:cubicBezTo>
                <a:cubicBezTo>
                  <a:pt x="3927" y="13883"/>
                  <a:pt x="3936" y="13874"/>
                  <a:pt x="3944" y="13866"/>
                </a:cubicBezTo>
                <a:cubicBezTo>
                  <a:pt x="4055" y="13783"/>
                  <a:pt x="4211" y="13825"/>
                  <a:pt x="4118" y="14015"/>
                </a:cubicBezTo>
                <a:cubicBezTo>
                  <a:pt x="4010" y="14236"/>
                  <a:pt x="3849" y="14168"/>
                  <a:pt x="3721" y="140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13040" y="4902120"/>
            <a:ext cx="2438280" cy="1081080"/>
          </a:xfrm>
          <a:custGeom>
            <a:avLst/>
            <a:gdLst/>
            <a:ahLst/>
            <a:rect l="l" t="t" r="r" b="b"/>
            <a:pathLst>
              <a:path w="6773" h="3002">
                <a:moveTo>
                  <a:pt x="7813" y="16024"/>
                </a:moveTo>
                <a:cubicBezTo>
                  <a:pt x="7813" y="16093"/>
                  <a:pt x="7821" y="16131"/>
                  <a:pt x="7838" y="16197"/>
                </a:cubicBezTo>
                <a:cubicBezTo>
                  <a:pt x="7845" y="16061"/>
                  <a:pt x="7809" y="15927"/>
                  <a:pt x="7987" y="15949"/>
                </a:cubicBezTo>
                <a:cubicBezTo>
                  <a:pt x="8177" y="15972"/>
                  <a:pt x="8075" y="16110"/>
                  <a:pt x="8186" y="16197"/>
                </a:cubicBezTo>
                <a:cubicBezTo>
                  <a:pt x="8252" y="16249"/>
                  <a:pt x="8357" y="16149"/>
                  <a:pt x="8384" y="16098"/>
                </a:cubicBezTo>
                <a:cubicBezTo>
                  <a:pt x="8392" y="16073"/>
                  <a:pt x="8401" y="16049"/>
                  <a:pt x="8409" y="16024"/>
                </a:cubicBezTo>
                <a:cubicBezTo>
                  <a:pt x="8409" y="16016"/>
                  <a:pt x="8409" y="16007"/>
                  <a:pt x="8409" y="15999"/>
                </a:cubicBezTo>
                <a:cubicBezTo>
                  <a:pt x="8353" y="16055"/>
                  <a:pt x="8305" y="16193"/>
                  <a:pt x="8384" y="16197"/>
                </a:cubicBezTo>
                <a:cubicBezTo>
                  <a:pt x="8417" y="16189"/>
                  <a:pt x="8450" y="16181"/>
                  <a:pt x="8483" y="16173"/>
                </a:cubicBezTo>
              </a:path>
              <a:path w="6773" h="3002">
                <a:moveTo>
                  <a:pt x="8781" y="15974"/>
                </a:moveTo>
                <a:cubicBezTo>
                  <a:pt x="8626" y="15957"/>
                  <a:pt x="8607" y="16082"/>
                  <a:pt x="8558" y="16222"/>
                </a:cubicBezTo>
                <a:cubicBezTo>
                  <a:pt x="8623" y="16189"/>
                  <a:pt x="8718" y="16106"/>
                  <a:pt x="8756" y="16049"/>
                </a:cubicBezTo>
                <a:cubicBezTo>
                  <a:pt x="8854" y="16166"/>
                  <a:pt x="8925" y="16314"/>
                  <a:pt x="8855" y="16470"/>
                </a:cubicBezTo>
                <a:cubicBezTo>
                  <a:pt x="8732" y="16746"/>
                  <a:pt x="8550" y="16588"/>
                  <a:pt x="8508" y="16421"/>
                </a:cubicBezTo>
              </a:path>
              <a:path w="6773" h="3002">
                <a:moveTo>
                  <a:pt x="9079" y="15999"/>
                </a:moveTo>
                <a:cubicBezTo>
                  <a:pt x="8972" y="15956"/>
                  <a:pt x="8874" y="15948"/>
                  <a:pt x="8830" y="16123"/>
                </a:cubicBezTo>
                <a:cubicBezTo>
                  <a:pt x="8799" y="16245"/>
                  <a:pt x="8984" y="16104"/>
                  <a:pt x="9054" y="15999"/>
                </a:cubicBezTo>
                <a:cubicBezTo>
                  <a:pt x="9054" y="15977"/>
                  <a:pt x="9063" y="16068"/>
                  <a:pt x="9128" y="16123"/>
                </a:cubicBezTo>
                <a:cubicBezTo>
                  <a:pt x="9205" y="16188"/>
                  <a:pt x="9236" y="16100"/>
                  <a:pt x="9277" y="16049"/>
                </a:cubicBezTo>
              </a:path>
              <a:path w="6773" h="3002">
                <a:moveTo>
                  <a:pt x="9277" y="15850"/>
                </a:moveTo>
                <a:cubicBezTo>
                  <a:pt x="9304" y="15904"/>
                  <a:pt x="9405" y="16144"/>
                  <a:pt x="9426" y="16123"/>
                </a:cubicBezTo>
              </a:path>
              <a:path w="6773" h="3002">
                <a:moveTo>
                  <a:pt x="9203" y="15949"/>
                </a:moveTo>
                <a:cubicBezTo>
                  <a:pt x="9308" y="15949"/>
                  <a:pt x="9440" y="15917"/>
                  <a:pt x="9525" y="15999"/>
                </a:cubicBezTo>
                <a:cubicBezTo>
                  <a:pt x="9564" y="16075"/>
                  <a:pt x="9563" y="16090"/>
                  <a:pt x="9599" y="16123"/>
                </a:cubicBezTo>
              </a:path>
              <a:path w="6773" h="3002">
                <a:moveTo>
                  <a:pt x="9649" y="15949"/>
                </a:moveTo>
                <a:cubicBezTo>
                  <a:pt x="9716" y="16062"/>
                  <a:pt x="9732" y="16094"/>
                  <a:pt x="9798" y="16148"/>
                </a:cubicBezTo>
                <a:cubicBezTo>
                  <a:pt x="9837" y="16029"/>
                  <a:pt x="9847" y="15927"/>
                  <a:pt x="9847" y="15801"/>
                </a:cubicBezTo>
                <a:cubicBezTo>
                  <a:pt x="9847" y="15809"/>
                  <a:pt x="9847" y="15817"/>
                  <a:pt x="9847" y="15825"/>
                </a:cubicBezTo>
              </a:path>
              <a:path w="6773" h="3002">
                <a:moveTo>
                  <a:pt x="9922" y="15974"/>
                </a:moveTo>
                <a:cubicBezTo>
                  <a:pt x="10001" y="15922"/>
                  <a:pt x="10030" y="15901"/>
                  <a:pt x="10071" y="15850"/>
                </a:cubicBezTo>
                <a:cubicBezTo>
                  <a:pt x="10059" y="15864"/>
                  <a:pt x="9870" y="16111"/>
                  <a:pt x="9947" y="16123"/>
                </a:cubicBezTo>
                <a:cubicBezTo>
                  <a:pt x="9980" y="16115"/>
                  <a:pt x="10013" y="16106"/>
                  <a:pt x="10046" y="16098"/>
                </a:cubicBezTo>
              </a:path>
              <a:path w="6773" h="3002">
                <a:moveTo>
                  <a:pt x="10269" y="15925"/>
                </a:moveTo>
                <a:cubicBezTo>
                  <a:pt x="10253" y="15972"/>
                  <a:pt x="10433" y="15979"/>
                  <a:pt x="10517" y="15999"/>
                </a:cubicBezTo>
                <a:cubicBezTo>
                  <a:pt x="10436" y="16160"/>
                  <a:pt x="10405" y="16123"/>
                  <a:pt x="10220" y="16123"/>
                </a:cubicBezTo>
              </a:path>
              <a:path w="6773" h="3002">
                <a:moveTo>
                  <a:pt x="10889" y="13618"/>
                </a:moveTo>
                <a:cubicBezTo>
                  <a:pt x="11049" y="13618"/>
                  <a:pt x="11204" y="13630"/>
                  <a:pt x="11361" y="13643"/>
                </a:cubicBezTo>
                <a:cubicBezTo>
                  <a:pt x="11504" y="13655"/>
                  <a:pt x="11645" y="13650"/>
                  <a:pt x="11782" y="13643"/>
                </a:cubicBezTo>
                <a:cubicBezTo>
                  <a:pt x="11904" y="13636"/>
                  <a:pt x="12010" y="13656"/>
                  <a:pt x="12129" y="13667"/>
                </a:cubicBezTo>
                <a:cubicBezTo>
                  <a:pt x="12260" y="13680"/>
                  <a:pt x="12394" y="13689"/>
                  <a:pt x="12526" y="13692"/>
                </a:cubicBezTo>
                <a:cubicBezTo>
                  <a:pt x="12702" y="13696"/>
                  <a:pt x="12872" y="13713"/>
                  <a:pt x="13047" y="13717"/>
                </a:cubicBezTo>
                <a:cubicBezTo>
                  <a:pt x="13214" y="13721"/>
                  <a:pt x="13374" y="13742"/>
                  <a:pt x="13543" y="13742"/>
                </a:cubicBezTo>
                <a:cubicBezTo>
                  <a:pt x="13683" y="13742"/>
                  <a:pt x="13841" y="13755"/>
                  <a:pt x="13965" y="13767"/>
                </a:cubicBezTo>
                <a:cubicBezTo>
                  <a:pt x="13990" y="13767"/>
                  <a:pt x="13998" y="13767"/>
                  <a:pt x="14015" y="13767"/>
                </a:cubicBezTo>
              </a:path>
              <a:path w="6773" h="3002">
                <a:moveTo>
                  <a:pt x="9624" y="14610"/>
                </a:moveTo>
                <a:cubicBezTo>
                  <a:pt x="9611" y="14675"/>
                  <a:pt x="9575" y="14746"/>
                  <a:pt x="9550" y="14808"/>
                </a:cubicBezTo>
                <a:cubicBezTo>
                  <a:pt x="9444" y="14879"/>
                  <a:pt x="9620" y="14636"/>
                  <a:pt x="9699" y="14536"/>
                </a:cubicBezTo>
                <a:cubicBezTo>
                  <a:pt x="9757" y="14478"/>
                  <a:pt x="9765" y="14469"/>
                  <a:pt x="9798" y="14436"/>
                </a:cubicBezTo>
                <a:cubicBezTo>
                  <a:pt x="9909" y="14613"/>
                  <a:pt x="9840" y="14715"/>
                  <a:pt x="9798" y="14908"/>
                </a:cubicBezTo>
                <a:cubicBezTo>
                  <a:pt x="9798" y="14924"/>
                  <a:pt x="9798" y="14941"/>
                  <a:pt x="9798" y="14957"/>
                </a:cubicBezTo>
              </a:path>
              <a:path w="6773" h="3002">
                <a:moveTo>
                  <a:pt x="10120" y="14461"/>
                </a:moveTo>
                <a:cubicBezTo>
                  <a:pt x="10093" y="14626"/>
                  <a:pt x="10028" y="14776"/>
                  <a:pt x="9971" y="14932"/>
                </a:cubicBezTo>
                <a:cubicBezTo>
                  <a:pt x="9953" y="14990"/>
                  <a:pt x="9926" y="15015"/>
                  <a:pt x="9971" y="15007"/>
                </a:cubicBezTo>
              </a:path>
              <a:path w="6773" h="3002">
                <a:moveTo>
                  <a:pt x="10269" y="14709"/>
                </a:moveTo>
                <a:cubicBezTo>
                  <a:pt x="10266" y="14734"/>
                  <a:pt x="10178" y="15039"/>
                  <a:pt x="10319" y="14957"/>
                </a:cubicBezTo>
                <a:cubicBezTo>
                  <a:pt x="10402" y="14874"/>
                  <a:pt x="10418" y="14858"/>
                  <a:pt x="10468" y="14808"/>
                </a:cubicBezTo>
                <a:cubicBezTo>
                  <a:pt x="10449" y="14903"/>
                  <a:pt x="10450" y="14915"/>
                  <a:pt x="10517" y="14982"/>
                </a:cubicBezTo>
                <a:cubicBezTo>
                  <a:pt x="10629" y="14901"/>
                  <a:pt x="10751" y="14804"/>
                  <a:pt x="10592" y="14684"/>
                </a:cubicBezTo>
                <a:cubicBezTo>
                  <a:pt x="10575" y="14676"/>
                  <a:pt x="10559" y="14668"/>
                  <a:pt x="10542" y="14660"/>
                </a:cubicBezTo>
              </a:path>
              <a:path w="6773" h="3002">
                <a:moveTo>
                  <a:pt x="10939" y="14684"/>
                </a:moveTo>
                <a:cubicBezTo>
                  <a:pt x="10833" y="14702"/>
                  <a:pt x="10746" y="14759"/>
                  <a:pt x="10765" y="14883"/>
                </a:cubicBezTo>
                <a:cubicBezTo>
                  <a:pt x="10778" y="14967"/>
                  <a:pt x="10982" y="14789"/>
                  <a:pt x="10988" y="14784"/>
                </a:cubicBezTo>
                <a:cubicBezTo>
                  <a:pt x="10988" y="14776"/>
                  <a:pt x="10988" y="14767"/>
                  <a:pt x="10988" y="14759"/>
                </a:cubicBezTo>
                <a:cubicBezTo>
                  <a:pt x="10889" y="14860"/>
                  <a:pt x="10957" y="14903"/>
                  <a:pt x="11063" y="14932"/>
                </a:cubicBezTo>
              </a:path>
              <a:path w="6773" h="3002">
                <a:moveTo>
                  <a:pt x="11385" y="14660"/>
                </a:moveTo>
                <a:cubicBezTo>
                  <a:pt x="11360" y="14776"/>
                  <a:pt x="11297" y="15062"/>
                  <a:pt x="11336" y="15081"/>
                </a:cubicBezTo>
              </a:path>
              <a:path w="6773" h="3002">
                <a:moveTo>
                  <a:pt x="11733" y="14635"/>
                </a:moveTo>
                <a:cubicBezTo>
                  <a:pt x="11655" y="14667"/>
                  <a:pt x="11590" y="14672"/>
                  <a:pt x="11559" y="14734"/>
                </a:cubicBezTo>
                <a:cubicBezTo>
                  <a:pt x="11644" y="14789"/>
                  <a:pt x="11719" y="14837"/>
                  <a:pt x="11782" y="14908"/>
                </a:cubicBezTo>
                <a:cubicBezTo>
                  <a:pt x="11615" y="14986"/>
                  <a:pt x="11633" y="15004"/>
                  <a:pt x="11534" y="14883"/>
                </a:cubicBezTo>
              </a:path>
              <a:path w="6773" h="3002">
                <a:moveTo>
                  <a:pt x="12502" y="14709"/>
                </a:moveTo>
                <a:cubicBezTo>
                  <a:pt x="12483" y="14849"/>
                  <a:pt x="12477" y="15222"/>
                  <a:pt x="12477" y="15081"/>
                </a:cubicBezTo>
                <a:cubicBezTo>
                  <a:pt x="12477" y="14826"/>
                  <a:pt x="12499" y="14712"/>
                  <a:pt x="12650" y="14511"/>
                </a:cubicBezTo>
                <a:cubicBezTo>
                  <a:pt x="12752" y="14590"/>
                  <a:pt x="12911" y="14794"/>
                  <a:pt x="12650" y="14808"/>
                </a:cubicBezTo>
                <a:cubicBezTo>
                  <a:pt x="12476" y="14817"/>
                  <a:pt x="12478" y="14783"/>
                  <a:pt x="12551" y="14709"/>
                </a:cubicBezTo>
              </a:path>
              <a:path w="6773" h="3002">
                <a:moveTo>
                  <a:pt x="12973" y="14635"/>
                </a:moveTo>
                <a:cubicBezTo>
                  <a:pt x="12885" y="14699"/>
                  <a:pt x="12655" y="14919"/>
                  <a:pt x="12923" y="14932"/>
                </a:cubicBezTo>
                <a:cubicBezTo>
                  <a:pt x="13059" y="14910"/>
                  <a:pt x="13103" y="14914"/>
                  <a:pt x="13122" y="14808"/>
                </a:cubicBezTo>
                <a:cubicBezTo>
                  <a:pt x="13022" y="14702"/>
                  <a:pt x="12787" y="14635"/>
                  <a:pt x="12973" y="14635"/>
                </a:cubicBezTo>
              </a:path>
              <a:path w="6773" h="3002">
                <a:moveTo>
                  <a:pt x="13196" y="14635"/>
                </a:moveTo>
                <a:cubicBezTo>
                  <a:pt x="13179" y="14643"/>
                  <a:pt x="13163" y="14652"/>
                  <a:pt x="13146" y="14660"/>
                </a:cubicBezTo>
                <a:cubicBezTo>
                  <a:pt x="13179" y="14757"/>
                  <a:pt x="13259" y="14805"/>
                  <a:pt x="13320" y="14883"/>
                </a:cubicBezTo>
                <a:cubicBezTo>
                  <a:pt x="13182" y="14971"/>
                  <a:pt x="13086" y="14997"/>
                  <a:pt x="13072" y="14833"/>
                </a:cubicBezTo>
              </a:path>
              <a:path w="6773" h="3002">
                <a:moveTo>
                  <a:pt x="13419" y="14759"/>
                </a:moveTo>
                <a:cubicBezTo>
                  <a:pt x="13419" y="14841"/>
                  <a:pt x="13419" y="14990"/>
                  <a:pt x="13419" y="14908"/>
                </a:cubicBezTo>
              </a:path>
              <a:path w="6773" h="3002">
                <a:moveTo>
                  <a:pt x="13568" y="14387"/>
                </a:moveTo>
                <a:cubicBezTo>
                  <a:pt x="13598" y="14581"/>
                  <a:pt x="13632" y="14735"/>
                  <a:pt x="13618" y="14932"/>
                </a:cubicBezTo>
                <a:cubicBezTo>
                  <a:pt x="13618" y="14940"/>
                  <a:pt x="13618" y="14949"/>
                  <a:pt x="13618" y="14957"/>
                </a:cubicBezTo>
              </a:path>
              <a:path w="6773" h="3002">
                <a:moveTo>
                  <a:pt x="13395" y="14635"/>
                </a:moveTo>
                <a:cubicBezTo>
                  <a:pt x="13493" y="14635"/>
                  <a:pt x="13737" y="14580"/>
                  <a:pt x="13791" y="14684"/>
                </a:cubicBezTo>
                <a:cubicBezTo>
                  <a:pt x="13823" y="14746"/>
                  <a:pt x="13806" y="14997"/>
                  <a:pt x="13767" y="14957"/>
                </a:cubicBezTo>
              </a:path>
              <a:path w="6773" h="3002">
                <a:moveTo>
                  <a:pt x="13990" y="14759"/>
                </a:moveTo>
                <a:cubicBezTo>
                  <a:pt x="14001" y="14782"/>
                  <a:pt x="14068" y="15008"/>
                  <a:pt x="14139" y="14982"/>
                </a:cubicBezTo>
                <a:cubicBezTo>
                  <a:pt x="14228" y="14950"/>
                  <a:pt x="14328" y="14739"/>
                  <a:pt x="14362" y="14660"/>
                </a:cubicBezTo>
              </a:path>
              <a:path w="6773" h="3002">
                <a:moveTo>
                  <a:pt x="14312" y="14808"/>
                </a:moveTo>
                <a:cubicBezTo>
                  <a:pt x="14401" y="14768"/>
                  <a:pt x="14462" y="14726"/>
                  <a:pt x="14536" y="14660"/>
                </a:cubicBezTo>
                <a:cubicBezTo>
                  <a:pt x="14476" y="14689"/>
                  <a:pt x="14308" y="14841"/>
                  <a:pt x="14461" y="14908"/>
                </a:cubicBezTo>
                <a:cubicBezTo>
                  <a:pt x="14502" y="14908"/>
                  <a:pt x="14544" y="14908"/>
                  <a:pt x="14585" y="149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57920" y="5054760"/>
            <a:ext cx="687240" cy="561960"/>
          </a:xfrm>
          <a:custGeom>
            <a:avLst/>
            <a:gdLst/>
            <a:ahLst/>
            <a:rect l="l" t="t" r="r" b="b"/>
            <a:pathLst>
              <a:path w="1911" h="1564">
                <a:moveTo>
                  <a:pt x="16991" y="15304"/>
                </a:moveTo>
                <a:cubicBezTo>
                  <a:pt x="16965" y="15245"/>
                  <a:pt x="16966" y="15207"/>
                  <a:pt x="16966" y="15280"/>
                </a:cubicBezTo>
                <a:cubicBezTo>
                  <a:pt x="16966" y="15454"/>
                  <a:pt x="16961" y="15497"/>
                  <a:pt x="16991" y="15602"/>
                </a:cubicBezTo>
                <a:cubicBezTo>
                  <a:pt x="16911" y="15469"/>
                  <a:pt x="16741" y="15142"/>
                  <a:pt x="16942" y="15007"/>
                </a:cubicBezTo>
                <a:cubicBezTo>
                  <a:pt x="16983" y="15007"/>
                  <a:pt x="17025" y="15007"/>
                  <a:pt x="17066" y="15007"/>
                </a:cubicBezTo>
                <a:cubicBezTo>
                  <a:pt x="17166" y="15170"/>
                  <a:pt x="17119" y="15181"/>
                  <a:pt x="16966" y="15280"/>
                </a:cubicBezTo>
                <a:cubicBezTo>
                  <a:pt x="16932" y="15314"/>
                  <a:pt x="16938" y="15327"/>
                  <a:pt x="17016" y="15329"/>
                </a:cubicBezTo>
              </a:path>
              <a:path w="1911" h="1564">
                <a:moveTo>
                  <a:pt x="17363" y="15304"/>
                </a:moveTo>
                <a:cubicBezTo>
                  <a:pt x="17228" y="15349"/>
                  <a:pt x="17194" y="15440"/>
                  <a:pt x="17165" y="15577"/>
                </a:cubicBezTo>
                <a:cubicBezTo>
                  <a:pt x="17234" y="15577"/>
                  <a:pt x="17526" y="15457"/>
                  <a:pt x="17338" y="15404"/>
                </a:cubicBezTo>
                <a:cubicBezTo>
                  <a:pt x="17264" y="15404"/>
                  <a:pt x="17255" y="15404"/>
                  <a:pt x="17214" y="15404"/>
                </a:cubicBezTo>
              </a:path>
              <a:path w="1911" h="1564">
                <a:moveTo>
                  <a:pt x="17686" y="15280"/>
                </a:moveTo>
                <a:cubicBezTo>
                  <a:pt x="17618" y="15257"/>
                  <a:pt x="17430" y="15261"/>
                  <a:pt x="17438" y="15379"/>
                </a:cubicBezTo>
                <a:cubicBezTo>
                  <a:pt x="17441" y="15418"/>
                  <a:pt x="17675" y="15445"/>
                  <a:pt x="17711" y="15453"/>
                </a:cubicBezTo>
                <a:cubicBezTo>
                  <a:pt x="17689" y="15479"/>
                  <a:pt x="17392" y="15642"/>
                  <a:pt x="17413" y="15553"/>
                </a:cubicBezTo>
                <a:cubicBezTo>
                  <a:pt x="17438" y="15528"/>
                  <a:pt x="17462" y="15503"/>
                  <a:pt x="17487" y="15478"/>
                </a:cubicBezTo>
              </a:path>
              <a:path w="1911" h="1564">
                <a:moveTo>
                  <a:pt x="18008" y="14982"/>
                </a:moveTo>
                <a:cubicBezTo>
                  <a:pt x="18075" y="15128"/>
                  <a:pt x="18147" y="15276"/>
                  <a:pt x="18182" y="15429"/>
                </a:cubicBezTo>
              </a:path>
              <a:path w="1911" h="1564">
                <a:moveTo>
                  <a:pt x="16297" y="14114"/>
                </a:moveTo>
                <a:cubicBezTo>
                  <a:pt x="16297" y="14241"/>
                  <a:pt x="16275" y="14360"/>
                  <a:pt x="16272" y="14486"/>
                </a:cubicBezTo>
                <a:cubicBezTo>
                  <a:pt x="16270" y="14560"/>
                  <a:pt x="16272" y="14635"/>
                  <a:pt x="16272" y="14709"/>
                </a:cubicBezTo>
              </a:path>
              <a:path w="1911" h="1564">
                <a:moveTo>
                  <a:pt x="16867" y="14188"/>
                </a:moveTo>
                <a:cubicBezTo>
                  <a:pt x="16760" y="14203"/>
                  <a:pt x="16652" y="14226"/>
                  <a:pt x="16545" y="14238"/>
                </a:cubicBezTo>
                <a:cubicBezTo>
                  <a:pt x="16474" y="14246"/>
                  <a:pt x="16466" y="14305"/>
                  <a:pt x="16446" y="14387"/>
                </a:cubicBezTo>
                <a:cubicBezTo>
                  <a:pt x="16446" y="14412"/>
                  <a:pt x="16446" y="14420"/>
                  <a:pt x="16446" y="14436"/>
                </a:cubicBezTo>
                <a:cubicBezTo>
                  <a:pt x="16522" y="14436"/>
                  <a:pt x="16593" y="14416"/>
                  <a:pt x="16669" y="14412"/>
                </a:cubicBezTo>
                <a:cubicBezTo>
                  <a:pt x="16749" y="14408"/>
                  <a:pt x="16796" y="14516"/>
                  <a:pt x="16793" y="14585"/>
                </a:cubicBezTo>
                <a:cubicBezTo>
                  <a:pt x="16788" y="14703"/>
                  <a:pt x="16621" y="14699"/>
                  <a:pt x="16545" y="14684"/>
                </a:cubicBezTo>
                <a:cubicBezTo>
                  <a:pt x="16504" y="14664"/>
                  <a:pt x="16498" y="14656"/>
                  <a:pt x="16470" y="14660"/>
                </a:cubicBezTo>
              </a:path>
              <a:path w="1911" h="1564">
                <a:moveTo>
                  <a:pt x="16966" y="14064"/>
                </a:moveTo>
                <a:cubicBezTo>
                  <a:pt x="16966" y="14056"/>
                  <a:pt x="16966" y="14047"/>
                  <a:pt x="16966" y="14039"/>
                </a:cubicBezTo>
                <a:cubicBezTo>
                  <a:pt x="17005" y="14078"/>
                  <a:pt x="17025" y="14234"/>
                  <a:pt x="17016" y="14312"/>
                </a:cubicBezTo>
                <a:cubicBezTo>
                  <a:pt x="17004" y="14412"/>
                  <a:pt x="16991" y="14506"/>
                  <a:pt x="16991" y="14610"/>
                </a:cubicBezTo>
                <a:cubicBezTo>
                  <a:pt x="16991" y="14677"/>
                  <a:pt x="16971" y="14696"/>
                  <a:pt x="16966" y="14759"/>
                </a:cubicBezTo>
                <a:cubicBezTo>
                  <a:pt x="16963" y="14801"/>
                  <a:pt x="16958" y="14798"/>
                  <a:pt x="16991" y="14808"/>
                </a:cubicBezTo>
              </a:path>
              <a:path w="1911" h="1564">
                <a:moveTo>
                  <a:pt x="17214" y="14312"/>
                </a:moveTo>
                <a:cubicBezTo>
                  <a:pt x="17298" y="14299"/>
                  <a:pt x="17382" y="14279"/>
                  <a:pt x="17462" y="14263"/>
                </a:cubicBezTo>
                <a:cubicBezTo>
                  <a:pt x="17520" y="14251"/>
                  <a:pt x="17472" y="14299"/>
                  <a:pt x="17462" y="14312"/>
                </a:cubicBezTo>
              </a:path>
              <a:path w="1911" h="1564">
                <a:moveTo>
                  <a:pt x="17214" y="14486"/>
                </a:moveTo>
                <a:cubicBezTo>
                  <a:pt x="17280" y="14486"/>
                  <a:pt x="17347" y="14486"/>
                  <a:pt x="17413" y="14486"/>
                </a:cubicBezTo>
              </a:path>
              <a:path w="1911" h="1564">
                <a:moveTo>
                  <a:pt x="18008" y="14139"/>
                </a:moveTo>
                <a:cubicBezTo>
                  <a:pt x="18075" y="14139"/>
                  <a:pt x="17926" y="14158"/>
                  <a:pt x="17859" y="14163"/>
                </a:cubicBezTo>
                <a:cubicBezTo>
                  <a:pt x="17785" y="14163"/>
                  <a:pt x="17776" y="14163"/>
                  <a:pt x="17735" y="14163"/>
                </a:cubicBezTo>
                <a:cubicBezTo>
                  <a:pt x="17735" y="14245"/>
                  <a:pt x="17744" y="14306"/>
                  <a:pt x="17735" y="14387"/>
                </a:cubicBezTo>
                <a:cubicBezTo>
                  <a:pt x="17735" y="14395"/>
                  <a:pt x="17735" y="14404"/>
                  <a:pt x="17735" y="14412"/>
                </a:cubicBezTo>
                <a:cubicBezTo>
                  <a:pt x="17803" y="14412"/>
                  <a:pt x="17867" y="14374"/>
                  <a:pt x="17934" y="14387"/>
                </a:cubicBezTo>
                <a:cubicBezTo>
                  <a:pt x="18025" y="14406"/>
                  <a:pt x="18095" y="14529"/>
                  <a:pt x="18033" y="14610"/>
                </a:cubicBezTo>
                <a:cubicBezTo>
                  <a:pt x="17971" y="14691"/>
                  <a:pt x="17818" y="14702"/>
                  <a:pt x="17735" y="14660"/>
                </a:cubicBezTo>
                <a:cubicBezTo>
                  <a:pt x="17727" y="14652"/>
                  <a:pt x="17719" y="14643"/>
                  <a:pt x="17711" y="146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66000" y="5000760"/>
            <a:ext cx="865080" cy="295200"/>
          </a:xfrm>
          <a:custGeom>
            <a:avLst/>
            <a:gdLst/>
            <a:ahLst/>
            <a:rect l="l" t="t" r="r" b="b"/>
            <a:pathLst>
              <a:path w="2407" h="819">
                <a:moveTo>
                  <a:pt x="19447" y="14039"/>
                </a:moveTo>
                <a:cubicBezTo>
                  <a:pt x="19447" y="14172"/>
                  <a:pt x="19418" y="14305"/>
                  <a:pt x="19397" y="14436"/>
                </a:cubicBezTo>
                <a:cubicBezTo>
                  <a:pt x="19389" y="14484"/>
                  <a:pt x="19316" y="14690"/>
                  <a:pt x="19372" y="14709"/>
                </a:cubicBezTo>
              </a:path>
              <a:path w="2407" h="819">
                <a:moveTo>
                  <a:pt x="19670" y="14312"/>
                </a:moveTo>
                <a:cubicBezTo>
                  <a:pt x="19752" y="14326"/>
                  <a:pt x="19787" y="14326"/>
                  <a:pt x="19869" y="14312"/>
                </a:cubicBezTo>
              </a:path>
              <a:path w="2407" h="819">
                <a:moveTo>
                  <a:pt x="20389" y="14114"/>
                </a:moveTo>
                <a:cubicBezTo>
                  <a:pt x="20272" y="14126"/>
                  <a:pt x="20209" y="14110"/>
                  <a:pt x="20166" y="14213"/>
                </a:cubicBezTo>
                <a:cubicBezTo>
                  <a:pt x="20146" y="14260"/>
                  <a:pt x="20126" y="14314"/>
                  <a:pt x="20117" y="14362"/>
                </a:cubicBezTo>
                <a:cubicBezTo>
                  <a:pt x="20178" y="14362"/>
                  <a:pt x="20273" y="14338"/>
                  <a:pt x="20315" y="14387"/>
                </a:cubicBezTo>
                <a:cubicBezTo>
                  <a:pt x="20372" y="14453"/>
                  <a:pt x="20337" y="14512"/>
                  <a:pt x="20265" y="14536"/>
                </a:cubicBezTo>
                <a:cubicBezTo>
                  <a:pt x="20181" y="14556"/>
                  <a:pt x="20162" y="14571"/>
                  <a:pt x="20117" y="14536"/>
                </a:cubicBezTo>
              </a:path>
              <a:path w="2407" h="819">
                <a:moveTo>
                  <a:pt x="20662" y="13891"/>
                </a:moveTo>
                <a:cubicBezTo>
                  <a:pt x="20662" y="14042"/>
                  <a:pt x="20646" y="14187"/>
                  <a:pt x="20638" y="14337"/>
                </a:cubicBezTo>
                <a:cubicBezTo>
                  <a:pt x="20632" y="14455"/>
                  <a:pt x="20613" y="14567"/>
                  <a:pt x="20613" y="14684"/>
                </a:cubicBezTo>
                <a:cubicBezTo>
                  <a:pt x="20613" y="14676"/>
                  <a:pt x="20613" y="14668"/>
                  <a:pt x="20613" y="14660"/>
                </a:cubicBezTo>
              </a:path>
              <a:path w="2407" h="819">
                <a:moveTo>
                  <a:pt x="21010" y="14188"/>
                </a:moveTo>
                <a:cubicBezTo>
                  <a:pt x="21051" y="14188"/>
                  <a:pt x="21093" y="14188"/>
                  <a:pt x="21134" y="14188"/>
                </a:cubicBezTo>
              </a:path>
              <a:path w="2407" h="819">
                <a:moveTo>
                  <a:pt x="21010" y="14337"/>
                </a:moveTo>
                <a:cubicBezTo>
                  <a:pt x="21068" y="14337"/>
                  <a:pt x="21125" y="14337"/>
                  <a:pt x="21183" y="14337"/>
                </a:cubicBezTo>
              </a:path>
              <a:path w="2407" h="819">
                <a:moveTo>
                  <a:pt x="21456" y="14114"/>
                </a:moveTo>
                <a:cubicBezTo>
                  <a:pt x="21449" y="14162"/>
                  <a:pt x="21441" y="14172"/>
                  <a:pt x="21431" y="14213"/>
                </a:cubicBezTo>
                <a:cubicBezTo>
                  <a:pt x="21477" y="14229"/>
                  <a:pt x="21802" y="14328"/>
                  <a:pt x="21654" y="14436"/>
                </a:cubicBezTo>
                <a:cubicBezTo>
                  <a:pt x="21593" y="14480"/>
                  <a:pt x="21510" y="14465"/>
                  <a:pt x="21481" y="14436"/>
                </a:cubicBezTo>
              </a:path>
              <a:path w="2407" h="819">
                <a:moveTo>
                  <a:pt x="21506" y="14139"/>
                </a:moveTo>
                <a:cubicBezTo>
                  <a:pt x="21588" y="14111"/>
                  <a:pt x="21670" y="14078"/>
                  <a:pt x="21754" y="140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73080" y="4367160"/>
            <a:ext cx="1411200" cy="696960"/>
          </a:xfrm>
          <a:custGeom>
            <a:avLst/>
            <a:gdLst/>
            <a:ahLst/>
            <a:rect l="l" t="t" r="r" b="b"/>
            <a:pathLst>
              <a:path w="3920" h="1936">
                <a:moveTo>
                  <a:pt x="6623" y="14064"/>
                </a:moveTo>
                <a:lnTo>
                  <a:pt x="6623" y="14064"/>
                </a:lnTo>
              </a:path>
              <a:path w="3920" h="1936">
                <a:moveTo>
                  <a:pt x="4614" y="12402"/>
                </a:moveTo>
                <a:cubicBezTo>
                  <a:pt x="4663" y="12535"/>
                  <a:pt x="4703" y="12626"/>
                  <a:pt x="4713" y="12774"/>
                </a:cubicBezTo>
              </a:path>
              <a:path w="3920" h="1936">
                <a:moveTo>
                  <a:pt x="2729" y="12179"/>
                </a:moveTo>
                <a:cubicBezTo>
                  <a:pt x="2798" y="12151"/>
                  <a:pt x="2888" y="12096"/>
                  <a:pt x="2927" y="12154"/>
                </a:cubicBezTo>
              </a:path>
              <a:path w="3920" h="1936">
                <a:moveTo>
                  <a:pt x="2704" y="12303"/>
                </a:moveTo>
                <a:cubicBezTo>
                  <a:pt x="2820" y="12280"/>
                  <a:pt x="2853" y="12273"/>
                  <a:pt x="2927" y="122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2760" y="4197240"/>
            <a:ext cx="401400" cy="401760"/>
          </a:xfrm>
          <a:custGeom>
            <a:avLst/>
            <a:gdLst/>
            <a:ahLst/>
            <a:rect l="l" t="t" r="r" b="b"/>
            <a:pathLst>
              <a:path w="1118" h="1117">
                <a:moveTo>
                  <a:pt x="1339" y="11782"/>
                </a:moveTo>
                <a:cubicBezTo>
                  <a:pt x="1359" y="12015"/>
                  <a:pt x="1354" y="12221"/>
                  <a:pt x="1339" y="12452"/>
                </a:cubicBezTo>
                <a:cubicBezTo>
                  <a:pt x="1339" y="12477"/>
                  <a:pt x="1339" y="12501"/>
                  <a:pt x="1339" y="12526"/>
                </a:cubicBezTo>
              </a:path>
              <a:path w="1118" h="1117">
                <a:moveTo>
                  <a:pt x="1885" y="11857"/>
                </a:moveTo>
                <a:cubicBezTo>
                  <a:pt x="1872" y="11863"/>
                  <a:pt x="1627" y="11994"/>
                  <a:pt x="1662" y="12055"/>
                </a:cubicBezTo>
                <a:cubicBezTo>
                  <a:pt x="1768" y="12241"/>
                  <a:pt x="1892" y="12200"/>
                  <a:pt x="1836" y="12427"/>
                </a:cubicBezTo>
                <a:cubicBezTo>
                  <a:pt x="1819" y="12427"/>
                  <a:pt x="1803" y="12427"/>
                  <a:pt x="1786" y="12427"/>
                </a:cubicBezTo>
                <a:cubicBezTo>
                  <a:pt x="1756" y="12247"/>
                  <a:pt x="1753" y="12137"/>
                  <a:pt x="1860" y="11981"/>
                </a:cubicBezTo>
                <a:cubicBezTo>
                  <a:pt x="1868" y="11973"/>
                  <a:pt x="1877" y="11964"/>
                  <a:pt x="1885" y="11956"/>
                </a:cubicBezTo>
              </a:path>
              <a:path w="1118" h="1117">
                <a:moveTo>
                  <a:pt x="2059" y="11931"/>
                </a:moveTo>
                <a:cubicBezTo>
                  <a:pt x="2053" y="12007"/>
                  <a:pt x="2042" y="12079"/>
                  <a:pt x="2034" y="12154"/>
                </a:cubicBezTo>
                <a:cubicBezTo>
                  <a:pt x="2140" y="12142"/>
                  <a:pt x="2147" y="12126"/>
                  <a:pt x="2232" y="12055"/>
                </a:cubicBezTo>
              </a:path>
              <a:path w="1118" h="1117">
                <a:moveTo>
                  <a:pt x="2183" y="11832"/>
                </a:moveTo>
                <a:cubicBezTo>
                  <a:pt x="2183" y="12019"/>
                  <a:pt x="2183" y="12378"/>
                  <a:pt x="2183" y="12477"/>
                </a:cubicBezTo>
              </a:path>
              <a:path w="1118" h="1117">
                <a:moveTo>
                  <a:pt x="2431" y="11658"/>
                </a:moveTo>
                <a:cubicBezTo>
                  <a:pt x="2451" y="11969"/>
                  <a:pt x="2443" y="12265"/>
                  <a:pt x="2431" y="12576"/>
                </a:cubicBezTo>
                <a:cubicBezTo>
                  <a:pt x="2428" y="12650"/>
                  <a:pt x="2431" y="12824"/>
                  <a:pt x="2431" y="127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14280" y="4205160"/>
            <a:ext cx="214560" cy="250920"/>
          </a:xfrm>
          <a:custGeom>
            <a:avLst/>
            <a:gdLst/>
            <a:ahLst/>
            <a:rect l="l" t="t" r="r" b="b"/>
            <a:pathLst>
              <a:path w="597" h="696">
                <a:moveTo>
                  <a:pt x="3621" y="11881"/>
                </a:moveTo>
                <a:cubicBezTo>
                  <a:pt x="3561" y="11842"/>
                  <a:pt x="3450" y="11952"/>
                  <a:pt x="3373" y="12005"/>
                </a:cubicBezTo>
                <a:cubicBezTo>
                  <a:pt x="3449" y="12073"/>
                  <a:pt x="3666" y="12183"/>
                  <a:pt x="3522" y="12303"/>
                </a:cubicBezTo>
                <a:cubicBezTo>
                  <a:pt x="3489" y="12311"/>
                  <a:pt x="3456" y="12320"/>
                  <a:pt x="3423" y="12328"/>
                </a:cubicBezTo>
                <a:cubicBezTo>
                  <a:pt x="3442" y="12154"/>
                  <a:pt x="3505" y="12052"/>
                  <a:pt x="3597" y="11906"/>
                </a:cubicBezTo>
              </a:path>
              <a:path w="597" h="696">
                <a:moveTo>
                  <a:pt x="3696" y="11807"/>
                </a:moveTo>
                <a:cubicBezTo>
                  <a:pt x="3707" y="11885"/>
                  <a:pt x="3716" y="11951"/>
                  <a:pt x="3721" y="12030"/>
                </a:cubicBezTo>
                <a:cubicBezTo>
                  <a:pt x="3867" y="12093"/>
                  <a:pt x="3889" y="11997"/>
                  <a:pt x="3969" y="11881"/>
                </a:cubicBezTo>
              </a:path>
              <a:path w="597" h="696">
                <a:moveTo>
                  <a:pt x="3919" y="11683"/>
                </a:moveTo>
                <a:cubicBezTo>
                  <a:pt x="3891" y="11879"/>
                  <a:pt x="3877" y="12081"/>
                  <a:pt x="3845" y="12278"/>
                </a:cubicBezTo>
                <a:cubicBezTo>
                  <a:pt x="3826" y="12353"/>
                  <a:pt x="3792" y="12386"/>
                  <a:pt x="3845" y="123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71760" y="4483080"/>
            <a:ext cx="160200" cy="88920"/>
          </a:xfrm>
          <a:custGeom>
            <a:avLst/>
            <a:gdLst/>
            <a:ahLst/>
            <a:rect l="l" t="t" r="r" b="b"/>
            <a:pathLst>
              <a:path w="447" h="249">
                <a:moveTo>
                  <a:pt x="4366" y="12551"/>
                </a:moveTo>
                <a:cubicBezTo>
                  <a:pt x="4444" y="12551"/>
                  <a:pt x="4763" y="12600"/>
                  <a:pt x="4812" y="12576"/>
                </a:cubicBezTo>
                <a:cubicBezTo>
                  <a:pt x="4812" y="12568"/>
                  <a:pt x="4812" y="12559"/>
                  <a:pt x="4812" y="12551"/>
                </a:cubicBezTo>
              </a:path>
              <a:path w="447" h="249">
                <a:moveTo>
                  <a:pt x="4787" y="12452"/>
                </a:moveTo>
                <a:cubicBezTo>
                  <a:pt x="4700" y="12533"/>
                  <a:pt x="4639" y="12608"/>
                  <a:pt x="4564" y="12700"/>
                </a:cubicBezTo>
                <a:cubicBezTo>
                  <a:pt x="4527" y="12675"/>
                  <a:pt x="4516" y="12573"/>
                  <a:pt x="4465" y="12526"/>
                </a:cubicBezTo>
                <a:cubicBezTo>
                  <a:pt x="4424" y="12506"/>
                  <a:pt x="4397" y="12498"/>
                  <a:pt x="4440" y="12502"/>
                </a:cubicBezTo>
                <a:cubicBezTo>
                  <a:pt x="4510" y="12551"/>
                  <a:pt x="4586" y="12587"/>
                  <a:pt x="4663" y="126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98800" y="5411880"/>
            <a:ext cx="4510080" cy="1204920"/>
          </a:xfrm>
          <a:custGeom>
            <a:avLst/>
            <a:gdLst/>
            <a:ahLst/>
            <a:rect l="l" t="t" r="r" b="b"/>
            <a:pathLst>
              <a:path w="12527" h="3349">
                <a:moveTo>
                  <a:pt x="17810" y="15379"/>
                </a:moveTo>
                <a:cubicBezTo>
                  <a:pt x="17850" y="15460"/>
                  <a:pt x="17866" y="15473"/>
                  <a:pt x="17859" y="15528"/>
                </a:cubicBezTo>
              </a:path>
              <a:path w="12527" h="3349">
                <a:moveTo>
                  <a:pt x="17859" y="15528"/>
                </a:moveTo>
                <a:lnTo>
                  <a:pt x="17859" y="15528"/>
                </a:lnTo>
              </a:path>
              <a:path w="12527" h="3349">
                <a:moveTo>
                  <a:pt x="17760" y="15180"/>
                </a:moveTo>
                <a:cubicBezTo>
                  <a:pt x="17768" y="15164"/>
                  <a:pt x="17777" y="15147"/>
                  <a:pt x="17785" y="15131"/>
                </a:cubicBezTo>
              </a:path>
              <a:path w="12527" h="3349">
                <a:moveTo>
                  <a:pt x="17884" y="15180"/>
                </a:moveTo>
                <a:cubicBezTo>
                  <a:pt x="18009" y="15215"/>
                  <a:pt x="18245" y="15243"/>
                  <a:pt x="18331" y="15354"/>
                </a:cubicBezTo>
                <a:cubicBezTo>
                  <a:pt x="18331" y="15406"/>
                  <a:pt x="18330" y="15424"/>
                  <a:pt x="18306" y="15453"/>
                </a:cubicBezTo>
              </a:path>
              <a:path w="12527" h="3349">
                <a:moveTo>
                  <a:pt x="18281" y="15032"/>
                </a:moveTo>
                <a:cubicBezTo>
                  <a:pt x="18321" y="15032"/>
                  <a:pt x="18340" y="15042"/>
                  <a:pt x="18355" y="15081"/>
                </a:cubicBezTo>
              </a:path>
              <a:path w="12527" h="3349">
                <a:moveTo>
                  <a:pt x="5829" y="18380"/>
                </a:moveTo>
                <a:cubicBezTo>
                  <a:pt x="5870" y="18357"/>
                  <a:pt x="6026" y="18277"/>
                  <a:pt x="6077" y="18306"/>
                </a:cubicBezTo>
                <a:cubicBezTo>
                  <a:pt x="6077" y="18334"/>
                  <a:pt x="6075" y="18345"/>
                  <a:pt x="6052" y="183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71960" y="6438960"/>
            <a:ext cx="223920" cy="88920"/>
          </a:xfrm>
          <a:custGeom>
            <a:avLst/>
            <a:gdLst/>
            <a:ahLst/>
            <a:rect l="l" t="t" r="r" b="b"/>
            <a:pathLst>
              <a:path w="621" h="249">
                <a:moveTo>
                  <a:pt x="11311" y="18132"/>
                </a:moveTo>
                <a:cubicBezTo>
                  <a:pt x="11363" y="18132"/>
                  <a:pt x="11381" y="18131"/>
                  <a:pt x="11410" y="18107"/>
                </a:cubicBezTo>
              </a:path>
              <a:path w="621" h="249">
                <a:moveTo>
                  <a:pt x="11708" y="18008"/>
                </a:moveTo>
                <a:cubicBezTo>
                  <a:pt x="11772" y="17935"/>
                  <a:pt x="11830" y="17901"/>
                  <a:pt x="11931" y="178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97080" y="6197760"/>
            <a:ext cx="61920" cy="490320"/>
          </a:xfrm>
          <a:custGeom>
            <a:avLst/>
            <a:gdLst/>
            <a:ahLst/>
            <a:rect l="l" t="t" r="r" b="b"/>
            <a:pathLst>
              <a:path w="175" h="1366">
                <a:moveTo>
                  <a:pt x="6102" y="17239"/>
                </a:moveTo>
                <a:cubicBezTo>
                  <a:pt x="6102" y="17177"/>
                  <a:pt x="6239" y="17506"/>
                  <a:pt x="6251" y="17537"/>
                </a:cubicBezTo>
                <a:cubicBezTo>
                  <a:pt x="6275" y="17599"/>
                  <a:pt x="6276" y="17630"/>
                  <a:pt x="6276" y="17686"/>
                </a:cubicBezTo>
              </a:path>
              <a:path w="175" h="1366">
                <a:moveTo>
                  <a:pt x="6152" y="18157"/>
                </a:moveTo>
                <a:cubicBezTo>
                  <a:pt x="6185" y="18298"/>
                  <a:pt x="6211" y="18440"/>
                  <a:pt x="6251" y="185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857240" y="6153120"/>
            <a:ext cx="142920" cy="231840"/>
          </a:xfrm>
          <a:custGeom>
            <a:avLst/>
            <a:gdLst/>
            <a:ahLst/>
            <a:rect l="l" t="t" r="r" b="b"/>
            <a:pathLst>
              <a:path w="398" h="646">
                <a:moveTo>
                  <a:pt x="5507" y="17090"/>
                </a:moveTo>
                <a:cubicBezTo>
                  <a:pt x="5488" y="17240"/>
                  <a:pt x="5362" y="17333"/>
                  <a:pt x="5259" y="17438"/>
                </a:cubicBezTo>
                <a:cubicBezTo>
                  <a:pt x="5186" y="17510"/>
                  <a:pt x="5153" y="17504"/>
                  <a:pt x="5159" y="17562"/>
                </a:cubicBezTo>
                <a:cubicBezTo>
                  <a:pt x="5270" y="17603"/>
                  <a:pt x="5404" y="17647"/>
                  <a:pt x="5507" y="17711"/>
                </a:cubicBezTo>
                <a:cubicBezTo>
                  <a:pt x="5529" y="17733"/>
                  <a:pt x="5534" y="17741"/>
                  <a:pt x="5556" y="177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95360" y="6197760"/>
            <a:ext cx="150840" cy="509400"/>
          </a:xfrm>
          <a:custGeom>
            <a:avLst/>
            <a:gdLst/>
            <a:ahLst/>
            <a:rect l="l" t="t" r="r" b="b"/>
            <a:pathLst>
              <a:path w="422" h="1415">
                <a:moveTo>
                  <a:pt x="6548" y="18083"/>
                </a:moveTo>
                <a:cubicBezTo>
                  <a:pt x="6523" y="18133"/>
                  <a:pt x="6430" y="18146"/>
                  <a:pt x="6400" y="18182"/>
                </a:cubicBezTo>
                <a:cubicBezTo>
                  <a:pt x="6357" y="18234"/>
                  <a:pt x="6375" y="18331"/>
                  <a:pt x="6400" y="18380"/>
                </a:cubicBezTo>
                <a:cubicBezTo>
                  <a:pt x="6443" y="18308"/>
                  <a:pt x="6488" y="18266"/>
                  <a:pt x="6573" y="18306"/>
                </a:cubicBezTo>
                <a:cubicBezTo>
                  <a:pt x="6688" y="18360"/>
                  <a:pt x="6608" y="18554"/>
                  <a:pt x="6548" y="18604"/>
                </a:cubicBezTo>
                <a:cubicBezTo>
                  <a:pt x="6503" y="18641"/>
                  <a:pt x="6429" y="18628"/>
                  <a:pt x="6375" y="18628"/>
                </a:cubicBezTo>
              </a:path>
              <a:path w="422" h="1415">
                <a:moveTo>
                  <a:pt x="6747" y="17214"/>
                </a:moveTo>
                <a:cubicBezTo>
                  <a:pt x="6727" y="17335"/>
                  <a:pt x="6717" y="17411"/>
                  <a:pt x="6747" y="17537"/>
                </a:cubicBezTo>
                <a:cubicBezTo>
                  <a:pt x="6762" y="17598"/>
                  <a:pt x="6759" y="17623"/>
                  <a:pt x="6796" y="17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43120" y="6224760"/>
            <a:ext cx="19080" cy="125280"/>
          </a:xfrm>
          <a:custGeom>
            <a:avLst/>
            <a:gdLst/>
            <a:ahLst/>
            <a:rect l="l" t="t" r="r" b="b"/>
            <a:pathLst>
              <a:path w="51" h="348">
                <a:moveTo>
                  <a:pt x="7367" y="17289"/>
                </a:moveTo>
                <a:cubicBezTo>
                  <a:pt x="7304" y="17310"/>
                  <a:pt x="7356" y="17460"/>
                  <a:pt x="7367" y="17512"/>
                </a:cubicBezTo>
                <a:cubicBezTo>
                  <a:pt x="7386" y="17586"/>
                  <a:pt x="7394" y="17593"/>
                  <a:pt x="7392" y="17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86040" y="6188040"/>
            <a:ext cx="19080" cy="115920"/>
          </a:xfrm>
          <a:custGeom>
            <a:avLst/>
            <a:gdLst/>
            <a:ahLst/>
            <a:rect l="l" t="t" r="r" b="b"/>
            <a:pathLst>
              <a:path w="51" h="323">
                <a:moveTo>
                  <a:pt x="7764" y="17214"/>
                </a:moveTo>
                <a:cubicBezTo>
                  <a:pt x="7756" y="17206"/>
                  <a:pt x="7747" y="17198"/>
                  <a:pt x="7739" y="17190"/>
                </a:cubicBezTo>
                <a:cubicBezTo>
                  <a:pt x="7753" y="17299"/>
                  <a:pt x="7781" y="17403"/>
                  <a:pt x="7789" y="175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90880" y="6143760"/>
            <a:ext cx="358920" cy="482400"/>
          </a:xfrm>
          <a:custGeom>
            <a:avLst/>
            <a:gdLst/>
            <a:ahLst/>
            <a:rect l="l" t="t" r="r" b="b"/>
            <a:pathLst>
              <a:path w="993" h="1340">
                <a:moveTo>
                  <a:pt x="8830" y="17066"/>
                </a:moveTo>
                <a:cubicBezTo>
                  <a:pt x="8782" y="17082"/>
                  <a:pt x="8862" y="17381"/>
                  <a:pt x="8880" y="17438"/>
                </a:cubicBezTo>
                <a:cubicBezTo>
                  <a:pt x="8900" y="17501"/>
                  <a:pt x="8928" y="17582"/>
                  <a:pt x="8954" y="17636"/>
                </a:cubicBezTo>
              </a:path>
              <a:path w="993" h="1340">
                <a:moveTo>
                  <a:pt x="8558" y="18207"/>
                </a:moveTo>
                <a:cubicBezTo>
                  <a:pt x="8533" y="18207"/>
                  <a:pt x="8525" y="18207"/>
                  <a:pt x="8508" y="18207"/>
                </a:cubicBezTo>
                <a:cubicBezTo>
                  <a:pt x="8567" y="18207"/>
                  <a:pt x="8608" y="18203"/>
                  <a:pt x="8657" y="18231"/>
                </a:cubicBezTo>
              </a:path>
              <a:path w="993" h="1340">
                <a:moveTo>
                  <a:pt x="8855" y="18058"/>
                </a:moveTo>
                <a:cubicBezTo>
                  <a:pt x="8855" y="18147"/>
                  <a:pt x="8798" y="18318"/>
                  <a:pt x="8806" y="18380"/>
                </a:cubicBezTo>
                <a:cubicBezTo>
                  <a:pt x="8840" y="18380"/>
                  <a:pt x="8853" y="18371"/>
                  <a:pt x="8855" y="18331"/>
                </a:cubicBezTo>
              </a:path>
              <a:path w="993" h="1340">
                <a:moveTo>
                  <a:pt x="8979" y="18058"/>
                </a:moveTo>
                <a:cubicBezTo>
                  <a:pt x="8972" y="18177"/>
                  <a:pt x="8934" y="18301"/>
                  <a:pt x="8979" y="18405"/>
                </a:cubicBezTo>
                <a:cubicBezTo>
                  <a:pt x="9066" y="18340"/>
                  <a:pt x="9152" y="18255"/>
                  <a:pt x="9054" y="18157"/>
                </a:cubicBezTo>
                <a:cubicBezTo>
                  <a:pt x="8997" y="18129"/>
                  <a:pt x="8974" y="18123"/>
                  <a:pt x="8930" y="18157"/>
                </a:cubicBezTo>
              </a:path>
              <a:path w="993" h="1340">
                <a:moveTo>
                  <a:pt x="9227" y="17165"/>
                </a:moveTo>
                <a:cubicBezTo>
                  <a:pt x="9227" y="17284"/>
                  <a:pt x="9245" y="17427"/>
                  <a:pt x="9277" y="17537"/>
                </a:cubicBezTo>
                <a:cubicBezTo>
                  <a:pt x="9285" y="17545"/>
                  <a:pt x="9294" y="17554"/>
                  <a:pt x="9302" y="17562"/>
                </a:cubicBezTo>
              </a:path>
              <a:path w="993" h="1340">
                <a:moveTo>
                  <a:pt x="8310" y="17165"/>
                </a:moveTo>
                <a:cubicBezTo>
                  <a:pt x="8316" y="17265"/>
                  <a:pt x="8322" y="17378"/>
                  <a:pt x="8359" y="17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17920" y="6161040"/>
            <a:ext cx="1440" cy="117360"/>
          </a:xfrm>
          <a:custGeom>
            <a:avLst/>
            <a:gdLst/>
            <a:ahLst/>
            <a:rect l="l" t="t" r="r" b="b"/>
            <a:pathLst>
              <a:path w="1" h="324">
                <a:moveTo>
                  <a:pt x="9773" y="17115"/>
                </a:moveTo>
                <a:cubicBezTo>
                  <a:pt x="9773" y="17223"/>
                  <a:pt x="9773" y="17330"/>
                  <a:pt x="9773" y="174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14840" y="6161040"/>
            <a:ext cx="17280" cy="125640"/>
          </a:xfrm>
          <a:custGeom>
            <a:avLst/>
            <a:gdLst/>
            <a:ahLst/>
            <a:rect l="l" t="t" r="r" b="b"/>
            <a:pathLst>
              <a:path w="50" h="348">
                <a:moveTo>
                  <a:pt x="10368" y="17140"/>
                </a:moveTo>
                <a:cubicBezTo>
                  <a:pt x="10340" y="17081"/>
                  <a:pt x="10318" y="17248"/>
                  <a:pt x="10319" y="17264"/>
                </a:cubicBezTo>
                <a:cubicBezTo>
                  <a:pt x="10324" y="17330"/>
                  <a:pt x="10344" y="17392"/>
                  <a:pt x="10344" y="17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75040" y="6161040"/>
            <a:ext cx="9720" cy="125640"/>
          </a:xfrm>
          <a:custGeom>
            <a:avLst/>
            <a:gdLst/>
            <a:ahLst/>
            <a:rect l="l" t="t" r="r" b="b"/>
            <a:pathLst>
              <a:path w="26" h="348">
                <a:moveTo>
                  <a:pt x="10790" y="17115"/>
                </a:moveTo>
                <a:cubicBezTo>
                  <a:pt x="10790" y="17226"/>
                  <a:pt x="10813" y="17368"/>
                  <a:pt x="10765" y="17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79960" y="6143760"/>
            <a:ext cx="61920" cy="465120"/>
          </a:xfrm>
          <a:custGeom>
            <a:avLst/>
            <a:gdLst/>
            <a:ahLst/>
            <a:rect l="l" t="t" r="r" b="b"/>
            <a:pathLst>
              <a:path w="174" h="1290">
                <a:moveTo>
                  <a:pt x="11609" y="17066"/>
                </a:moveTo>
                <a:cubicBezTo>
                  <a:pt x="11626" y="17204"/>
                  <a:pt x="11633" y="17343"/>
                  <a:pt x="11633" y="17487"/>
                </a:cubicBezTo>
                <a:cubicBezTo>
                  <a:pt x="11633" y="17545"/>
                  <a:pt x="11633" y="17554"/>
                  <a:pt x="11633" y="17587"/>
                </a:cubicBezTo>
              </a:path>
              <a:path w="174" h="1290">
                <a:moveTo>
                  <a:pt x="11683" y="17934"/>
                </a:moveTo>
                <a:cubicBezTo>
                  <a:pt x="11662" y="18018"/>
                  <a:pt x="11660" y="18037"/>
                  <a:pt x="11633" y="18083"/>
                </a:cubicBezTo>
                <a:cubicBezTo>
                  <a:pt x="11710" y="18108"/>
                  <a:pt x="11815" y="18096"/>
                  <a:pt x="11782" y="18231"/>
                </a:cubicBezTo>
                <a:cubicBezTo>
                  <a:pt x="11746" y="18379"/>
                  <a:pt x="11656" y="18392"/>
                  <a:pt x="11633" y="182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91000" y="6161040"/>
            <a:ext cx="1800" cy="125640"/>
          </a:xfrm>
          <a:custGeom>
            <a:avLst/>
            <a:gdLst/>
            <a:ahLst/>
            <a:rect l="l" t="t" r="r" b="b"/>
            <a:pathLst>
              <a:path w="1" h="348">
                <a:moveTo>
                  <a:pt x="12477" y="17115"/>
                </a:moveTo>
                <a:cubicBezTo>
                  <a:pt x="12477" y="17231"/>
                  <a:pt x="12477" y="17346"/>
                  <a:pt x="12477" y="17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26000" y="6153120"/>
            <a:ext cx="9360" cy="106560"/>
          </a:xfrm>
          <a:custGeom>
            <a:avLst/>
            <a:gdLst/>
            <a:ahLst/>
            <a:rect l="l" t="t" r="r" b="b"/>
            <a:pathLst>
              <a:path w="26" h="299">
                <a:moveTo>
                  <a:pt x="12849" y="17090"/>
                </a:moveTo>
                <a:cubicBezTo>
                  <a:pt x="12855" y="17127"/>
                  <a:pt x="12914" y="17348"/>
                  <a:pt x="12874" y="17388"/>
                </a:cubicBezTo>
                <a:cubicBezTo>
                  <a:pt x="12866" y="17388"/>
                  <a:pt x="12857" y="17388"/>
                  <a:pt x="12849" y="173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840200" y="6153120"/>
            <a:ext cx="9720" cy="133560"/>
          </a:xfrm>
          <a:custGeom>
            <a:avLst/>
            <a:gdLst/>
            <a:ahLst/>
            <a:rect l="l" t="t" r="r" b="b"/>
            <a:pathLst>
              <a:path w="26" h="373">
                <a:moveTo>
                  <a:pt x="13469" y="17090"/>
                </a:moveTo>
                <a:cubicBezTo>
                  <a:pt x="13457" y="17213"/>
                  <a:pt x="13462" y="17313"/>
                  <a:pt x="13469" y="17438"/>
                </a:cubicBezTo>
                <a:cubicBezTo>
                  <a:pt x="13469" y="17446"/>
                  <a:pt x="13469" y="17454"/>
                  <a:pt x="13469" y="17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983120" y="6143760"/>
            <a:ext cx="27000" cy="107640"/>
          </a:xfrm>
          <a:custGeom>
            <a:avLst/>
            <a:gdLst/>
            <a:ahLst/>
            <a:rect l="l" t="t" r="r" b="b"/>
            <a:pathLst>
              <a:path w="75" h="298">
                <a:moveTo>
                  <a:pt x="13915" y="17066"/>
                </a:moveTo>
                <a:cubicBezTo>
                  <a:pt x="13908" y="17158"/>
                  <a:pt x="13891" y="17245"/>
                  <a:pt x="13891" y="17338"/>
                </a:cubicBezTo>
                <a:cubicBezTo>
                  <a:pt x="13891" y="17371"/>
                  <a:pt x="13883" y="17380"/>
                  <a:pt x="13841" y="173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187960" y="6089760"/>
            <a:ext cx="135000" cy="501480"/>
          </a:xfrm>
          <a:custGeom>
            <a:avLst/>
            <a:gdLst/>
            <a:ahLst/>
            <a:rect l="l" t="t" r="r" b="b"/>
            <a:pathLst>
              <a:path w="373" h="1390">
                <a:moveTo>
                  <a:pt x="14511" y="17016"/>
                </a:moveTo>
                <a:cubicBezTo>
                  <a:pt x="14511" y="17145"/>
                  <a:pt x="14521" y="17285"/>
                  <a:pt x="14536" y="17413"/>
                </a:cubicBezTo>
                <a:cubicBezTo>
                  <a:pt x="14554" y="17504"/>
                  <a:pt x="14562" y="17511"/>
                  <a:pt x="14560" y="17562"/>
                </a:cubicBezTo>
                <a:cubicBezTo>
                  <a:pt x="14560" y="17436"/>
                  <a:pt x="14527" y="17318"/>
                  <a:pt x="14536" y="17190"/>
                </a:cubicBezTo>
                <a:cubicBezTo>
                  <a:pt x="14540" y="17135"/>
                  <a:pt x="14546" y="16923"/>
                  <a:pt x="14560" y="16942"/>
                </a:cubicBezTo>
                <a:cubicBezTo>
                  <a:pt x="14568" y="16950"/>
                  <a:pt x="14577" y="16958"/>
                  <a:pt x="14585" y="16966"/>
                </a:cubicBezTo>
              </a:path>
              <a:path w="373" h="1390">
                <a:moveTo>
                  <a:pt x="14635" y="17859"/>
                </a:moveTo>
                <a:cubicBezTo>
                  <a:pt x="14560" y="17874"/>
                  <a:pt x="14492" y="17904"/>
                  <a:pt x="14461" y="17983"/>
                </a:cubicBezTo>
                <a:cubicBezTo>
                  <a:pt x="14454" y="18001"/>
                  <a:pt x="14411" y="18122"/>
                  <a:pt x="14412" y="18132"/>
                </a:cubicBezTo>
                <a:cubicBezTo>
                  <a:pt x="14421" y="18200"/>
                  <a:pt x="14455" y="18226"/>
                  <a:pt x="14511" y="18256"/>
                </a:cubicBezTo>
                <a:cubicBezTo>
                  <a:pt x="14588" y="18297"/>
                  <a:pt x="14591" y="18289"/>
                  <a:pt x="14660" y="18281"/>
                </a:cubicBezTo>
                <a:cubicBezTo>
                  <a:pt x="14714" y="18275"/>
                  <a:pt x="14736" y="18223"/>
                  <a:pt x="14759" y="18182"/>
                </a:cubicBezTo>
                <a:cubicBezTo>
                  <a:pt x="14790" y="18129"/>
                  <a:pt x="14784" y="18093"/>
                  <a:pt x="14784" y="18033"/>
                </a:cubicBezTo>
                <a:cubicBezTo>
                  <a:pt x="14784" y="17980"/>
                  <a:pt x="14748" y="17950"/>
                  <a:pt x="14734" y="17909"/>
                </a:cubicBezTo>
                <a:cubicBezTo>
                  <a:pt x="14723" y="17875"/>
                  <a:pt x="14674" y="17866"/>
                  <a:pt x="14635" y="178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411880" y="6161040"/>
            <a:ext cx="1440" cy="135000"/>
          </a:xfrm>
          <a:custGeom>
            <a:avLst/>
            <a:gdLst/>
            <a:ahLst/>
            <a:rect l="l" t="t" r="r" b="b"/>
            <a:pathLst>
              <a:path w="1" h="373">
                <a:moveTo>
                  <a:pt x="15032" y="17140"/>
                </a:moveTo>
                <a:cubicBezTo>
                  <a:pt x="15032" y="17064"/>
                  <a:pt x="15032" y="17371"/>
                  <a:pt x="15032" y="17388"/>
                </a:cubicBezTo>
                <a:cubicBezTo>
                  <a:pt x="15032" y="17421"/>
                  <a:pt x="15032" y="17454"/>
                  <a:pt x="15032" y="174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72080" y="6153120"/>
            <a:ext cx="9720" cy="115920"/>
          </a:xfrm>
          <a:custGeom>
            <a:avLst/>
            <a:gdLst/>
            <a:ahLst/>
            <a:rect l="l" t="t" r="r" b="b"/>
            <a:pathLst>
              <a:path w="26" h="324">
                <a:moveTo>
                  <a:pt x="15478" y="17090"/>
                </a:moveTo>
                <a:cubicBezTo>
                  <a:pt x="15478" y="17183"/>
                  <a:pt x="15498" y="17271"/>
                  <a:pt x="15503" y="17363"/>
                </a:cubicBezTo>
                <a:cubicBezTo>
                  <a:pt x="15503" y="17388"/>
                  <a:pt x="15503" y="17396"/>
                  <a:pt x="15503" y="174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49920" y="6153120"/>
            <a:ext cx="9360" cy="115920"/>
          </a:xfrm>
          <a:custGeom>
            <a:avLst/>
            <a:gdLst/>
            <a:ahLst/>
            <a:rect l="l" t="t" r="r" b="b"/>
            <a:pathLst>
              <a:path w="26" h="324">
                <a:moveTo>
                  <a:pt x="15999" y="17090"/>
                </a:moveTo>
                <a:cubicBezTo>
                  <a:pt x="15973" y="17125"/>
                  <a:pt x="15953" y="17288"/>
                  <a:pt x="15974" y="17363"/>
                </a:cubicBezTo>
                <a:cubicBezTo>
                  <a:pt x="15997" y="17386"/>
                  <a:pt x="16005" y="17390"/>
                  <a:pt x="15999" y="174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02200" y="6089760"/>
            <a:ext cx="223920" cy="509400"/>
          </a:xfrm>
          <a:custGeom>
            <a:avLst/>
            <a:gdLst/>
            <a:ahLst/>
            <a:rect l="l" t="t" r="r" b="b"/>
            <a:pathLst>
              <a:path w="621" h="1415">
                <a:moveTo>
                  <a:pt x="16842" y="16917"/>
                </a:moveTo>
                <a:cubicBezTo>
                  <a:pt x="16842" y="17067"/>
                  <a:pt x="16805" y="17213"/>
                  <a:pt x="16818" y="17363"/>
                </a:cubicBezTo>
                <a:cubicBezTo>
                  <a:pt x="16836" y="17437"/>
                  <a:pt x="16844" y="17444"/>
                  <a:pt x="16842" y="17487"/>
                </a:cubicBezTo>
              </a:path>
              <a:path w="621" h="1415">
                <a:moveTo>
                  <a:pt x="16991" y="17835"/>
                </a:moveTo>
                <a:cubicBezTo>
                  <a:pt x="16942" y="17851"/>
                  <a:pt x="16873" y="17859"/>
                  <a:pt x="16793" y="17859"/>
                </a:cubicBezTo>
                <a:cubicBezTo>
                  <a:pt x="16707" y="17859"/>
                  <a:pt x="16757" y="17891"/>
                  <a:pt x="16743" y="17983"/>
                </a:cubicBezTo>
                <a:cubicBezTo>
                  <a:pt x="16735" y="18016"/>
                  <a:pt x="16726" y="18050"/>
                  <a:pt x="16718" y="18083"/>
                </a:cubicBezTo>
                <a:cubicBezTo>
                  <a:pt x="16718" y="18091"/>
                  <a:pt x="16718" y="18099"/>
                  <a:pt x="16718" y="18107"/>
                </a:cubicBezTo>
                <a:cubicBezTo>
                  <a:pt x="16802" y="18107"/>
                  <a:pt x="16850" y="18064"/>
                  <a:pt x="16942" y="18058"/>
                </a:cubicBezTo>
                <a:cubicBezTo>
                  <a:pt x="16967" y="18058"/>
                  <a:pt x="16991" y="18058"/>
                  <a:pt x="17016" y="18058"/>
                </a:cubicBezTo>
                <a:cubicBezTo>
                  <a:pt x="17016" y="18238"/>
                  <a:pt x="17014" y="18300"/>
                  <a:pt x="16818" y="18331"/>
                </a:cubicBezTo>
                <a:cubicBezTo>
                  <a:pt x="16722" y="18331"/>
                  <a:pt x="16691" y="18333"/>
                  <a:pt x="16644" y="18281"/>
                </a:cubicBezTo>
              </a:path>
              <a:path w="621" h="1415">
                <a:moveTo>
                  <a:pt x="16396" y="17041"/>
                </a:moveTo>
                <a:cubicBezTo>
                  <a:pt x="16396" y="17110"/>
                  <a:pt x="16364" y="17295"/>
                  <a:pt x="16421" y="173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15040" y="6126120"/>
            <a:ext cx="19080" cy="125280"/>
          </a:xfrm>
          <a:custGeom>
            <a:avLst/>
            <a:gdLst/>
            <a:ahLst/>
            <a:rect l="l" t="t" r="r" b="b"/>
            <a:pathLst>
              <a:path w="51" h="348">
                <a:moveTo>
                  <a:pt x="17264" y="17041"/>
                </a:moveTo>
                <a:cubicBezTo>
                  <a:pt x="17264" y="17016"/>
                  <a:pt x="17264" y="17008"/>
                  <a:pt x="17289" y="17016"/>
                </a:cubicBezTo>
                <a:cubicBezTo>
                  <a:pt x="17289" y="17114"/>
                  <a:pt x="17309" y="17195"/>
                  <a:pt x="17314" y="17289"/>
                </a:cubicBezTo>
                <a:cubicBezTo>
                  <a:pt x="17314" y="17330"/>
                  <a:pt x="17314" y="17338"/>
                  <a:pt x="17314" y="173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11960" y="6126120"/>
            <a:ext cx="9360" cy="115920"/>
          </a:xfrm>
          <a:custGeom>
            <a:avLst/>
            <a:gdLst/>
            <a:ahLst/>
            <a:rect l="l" t="t" r="r" b="b"/>
            <a:pathLst>
              <a:path w="26" h="323">
                <a:moveTo>
                  <a:pt x="17810" y="17016"/>
                </a:moveTo>
                <a:cubicBezTo>
                  <a:pt x="17810" y="17108"/>
                  <a:pt x="17785" y="17289"/>
                  <a:pt x="17835" y="173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599160" y="6107040"/>
            <a:ext cx="9720" cy="127080"/>
          </a:xfrm>
          <a:custGeom>
            <a:avLst/>
            <a:gdLst/>
            <a:ahLst/>
            <a:rect l="l" t="t" r="r" b="b"/>
            <a:pathLst>
              <a:path w="25" h="349">
                <a:moveTo>
                  <a:pt x="18331" y="16966"/>
                </a:moveTo>
                <a:cubicBezTo>
                  <a:pt x="18331" y="17072"/>
                  <a:pt x="18338" y="17162"/>
                  <a:pt x="18355" y="17264"/>
                </a:cubicBezTo>
                <a:cubicBezTo>
                  <a:pt x="18355" y="17289"/>
                  <a:pt x="18355" y="17297"/>
                  <a:pt x="18355" y="173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670800" y="5419800"/>
            <a:ext cx="509400" cy="1125360"/>
          </a:xfrm>
          <a:custGeom>
            <a:avLst/>
            <a:gdLst/>
            <a:ahLst/>
            <a:rect l="l" t="t" r="r" b="b"/>
            <a:pathLst>
              <a:path w="1415" h="3127">
                <a:moveTo>
                  <a:pt x="19447" y="16842"/>
                </a:moveTo>
                <a:cubicBezTo>
                  <a:pt x="19473" y="16998"/>
                  <a:pt x="19457" y="17131"/>
                  <a:pt x="19447" y="17289"/>
                </a:cubicBezTo>
                <a:cubicBezTo>
                  <a:pt x="19447" y="17367"/>
                  <a:pt x="19462" y="17385"/>
                  <a:pt x="19422" y="17413"/>
                </a:cubicBezTo>
              </a:path>
              <a:path w="1415" h="3127">
                <a:moveTo>
                  <a:pt x="19323" y="17760"/>
                </a:moveTo>
                <a:cubicBezTo>
                  <a:pt x="19306" y="17893"/>
                  <a:pt x="19271" y="18025"/>
                  <a:pt x="19248" y="18157"/>
                </a:cubicBezTo>
                <a:cubicBezTo>
                  <a:pt x="19248" y="18165"/>
                  <a:pt x="19248" y="18174"/>
                  <a:pt x="19248" y="18182"/>
                </a:cubicBezTo>
              </a:path>
              <a:path w="1415" h="3127">
                <a:moveTo>
                  <a:pt x="19596" y="17735"/>
                </a:moveTo>
                <a:cubicBezTo>
                  <a:pt x="19544" y="17839"/>
                  <a:pt x="19467" y="17960"/>
                  <a:pt x="19496" y="18083"/>
                </a:cubicBezTo>
                <a:cubicBezTo>
                  <a:pt x="19504" y="18091"/>
                  <a:pt x="19513" y="18099"/>
                  <a:pt x="19521" y="18107"/>
                </a:cubicBezTo>
                <a:cubicBezTo>
                  <a:pt x="19618" y="18071"/>
                  <a:pt x="19834" y="18009"/>
                  <a:pt x="19745" y="17859"/>
                </a:cubicBezTo>
                <a:cubicBezTo>
                  <a:pt x="19687" y="17762"/>
                  <a:pt x="19615" y="17768"/>
                  <a:pt x="19521" y="17760"/>
                </a:cubicBezTo>
              </a:path>
              <a:path w="1415" h="3127">
                <a:moveTo>
                  <a:pt x="18876" y="16942"/>
                </a:moveTo>
                <a:cubicBezTo>
                  <a:pt x="18901" y="16942"/>
                  <a:pt x="18909" y="16942"/>
                  <a:pt x="18926" y="16942"/>
                </a:cubicBezTo>
                <a:cubicBezTo>
                  <a:pt x="18926" y="17049"/>
                  <a:pt x="18896" y="17135"/>
                  <a:pt x="18876" y="17239"/>
                </a:cubicBezTo>
                <a:cubicBezTo>
                  <a:pt x="18876" y="17264"/>
                  <a:pt x="18876" y="17272"/>
                  <a:pt x="18876" y="17289"/>
                </a:cubicBezTo>
              </a:path>
              <a:path w="1415" h="3127">
                <a:moveTo>
                  <a:pt x="19943" y="16917"/>
                </a:moveTo>
                <a:cubicBezTo>
                  <a:pt x="19911" y="16949"/>
                  <a:pt x="19902" y="17093"/>
                  <a:pt x="19893" y="17165"/>
                </a:cubicBezTo>
                <a:cubicBezTo>
                  <a:pt x="19893" y="17181"/>
                  <a:pt x="19893" y="17198"/>
                  <a:pt x="19893" y="17214"/>
                </a:cubicBezTo>
              </a:path>
              <a:path w="1415" h="3127">
                <a:moveTo>
                  <a:pt x="18529" y="15379"/>
                </a:moveTo>
                <a:cubicBezTo>
                  <a:pt x="18591" y="15440"/>
                  <a:pt x="18597" y="15464"/>
                  <a:pt x="18653" y="15453"/>
                </a:cubicBezTo>
                <a:cubicBezTo>
                  <a:pt x="18672" y="15353"/>
                  <a:pt x="18678" y="15260"/>
                  <a:pt x="18678" y="15156"/>
                </a:cubicBezTo>
              </a:path>
              <a:path w="1415" h="3127">
                <a:moveTo>
                  <a:pt x="18852" y="15230"/>
                </a:moveTo>
                <a:cubicBezTo>
                  <a:pt x="18896" y="15140"/>
                  <a:pt x="18909" y="15117"/>
                  <a:pt x="18926" y="15056"/>
                </a:cubicBezTo>
                <a:cubicBezTo>
                  <a:pt x="18836" y="15129"/>
                  <a:pt x="18777" y="15281"/>
                  <a:pt x="18901" y="15379"/>
                </a:cubicBezTo>
                <a:cubicBezTo>
                  <a:pt x="19013" y="15407"/>
                  <a:pt x="19055" y="15406"/>
                  <a:pt x="19100" y="153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58040" y="6062760"/>
            <a:ext cx="9720" cy="108000"/>
          </a:xfrm>
          <a:custGeom>
            <a:avLst/>
            <a:gdLst/>
            <a:ahLst/>
            <a:rect l="l" t="t" r="r" b="b"/>
            <a:pathLst>
              <a:path w="26" h="299">
                <a:moveTo>
                  <a:pt x="20439" y="16892"/>
                </a:moveTo>
                <a:cubicBezTo>
                  <a:pt x="20439" y="16864"/>
                  <a:pt x="20441" y="16853"/>
                  <a:pt x="20464" y="16842"/>
                </a:cubicBezTo>
                <a:cubicBezTo>
                  <a:pt x="20464" y="16898"/>
                  <a:pt x="20464" y="17148"/>
                  <a:pt x="20464" y="171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527960" y="6018120"/>
            <a:ext cx="9360" cy="117720"/>
          </a:xfrm>
          <a:custGeom>
            <a:avLst/>
            <a:gdLst/>
            <a:ahLst/>
            <a:rect l="l" t="t" r="r" b="b"/>
            <a:pathLst>
              <a:path w="26" h="324">
                <a:moveTo>
                  <a:pt x="20910" y="16718"/>
                </a:moveTo>
                <a:cubicBezTo>
                  <a:pt x="20910" y="16823"/>
                  <a:pt x="20908" y="16925"/>
                  <a:pt x="20935" y="17016"/>
                </a:cubicBezTo>
                <a:cubicBezTo>
                  <a:pt x="20935" y="17024"/>
                  <a:pt x="20935" y="17033"/>
                  <a:pt x="20935" y="170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78800" y="6027840"/>
            <a:ext cx="36360" cy="98280"/>
          </a:xfrm>
          <a:custGeom>
            <a:avLst/>
            <a:gdLst/>
            <a:ahLst/>
            <a:rect l="l" t="t" r="r" b="b"/>
            <a:pathLst>
              <a:path w="100" h="274">
                <a:moveTo>
                  <a:pt x="21332" y="16768"/>
                </a:moveTo>
                <a:cubicBezTo>
                  <a:pt x="21372" y="16755"/>
                  <a:pt x="21342" y="16756"/>
                  <a:pt x="21382" y="16743"/>
                </a:cubicBezTo>
                <a:cubicBezTo>
                  <a:pt x="21382" y="16833"/>
                  <a:pt x="21387" y="16907"/>
                  <a:pt x="21406" y="16991"/>
                </a:cubicBezTo>
                <a:cubicBezTo>
                  <a:pt x="21414" y="17025"/>
                  <a:pt x="21404" y="17002"/>
                  <a:pt x="21431" y="169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867800" y="6330960"/>
            <a:ext cx="9360" cy="135000"/>
          </a:xfrm>
          <a:custGeom>
            <a:avLst/>
            <a:gdLst/>
            <a:ahLst/>
            <a:rect l="l" t="t" r="r" b="b"/>
            <a:pathLst>
              <a:path w="26" h="373">
                <a:moveTo>
                  <a:pt x="21853" y="17587"/>
                </a:moveTo>
                <a:cubicBezTo>
                  <a:pt x="21853" y="17680"/>
                  <a:pt x="21890" y="17765"/>
                  <a:pt x="21878" y="17859"/>
                </a:cubicBezTo>
                <a:cubicBezTo>
                  <a:pt x="21869" y="17930"/>
                  <a:pt x="21823" y="17941"/>
                  <a:pt x="21878" y="179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56720" y="5946840"/>
            <a:ext cx="115560" cy="536400"/>
          </a:xfrm>
          <a:custGeom>
            <a:avLst/>
            <a:gdLst/>
            <a:ahLst/>
            <a:rect l="l" t="t" r="r" b="b"/>
            <a:pathLst>
              <a:path w="323" h="1489">
                <a:moveTo>
                  <a:pt x="22175" y="16545"/>
                </a:moveTo>
                <a:cubicBezTo>
                  <a:pt x="22175" y="16462"/>
                  <a:pt x="22151" y="16878"/>
                  <a:pt x="22151" y="16892"/>
                </a:cubicBezTo>
                <a:cubicBezTo>
                  <a:pt x="22151" y="16999"/>
                  <a:pt x="22151" y="17024"/>
                  <a:pt x="22151" y="17090"/>
                </a:cubicBezTo>
              </a:path>
              <a:path w="323" h="1489">
                <a:moveTo>
                  <a:pt x="22399" y="17413"/>
                </a:moveTo>
                <a:cubicBezTo>
                  <a:pt x="22343" y="17435"/>
                  <a:pt x="22188" y="17450"/>
                  <a:pt x="22151" y="17487"/>
                </a:cubicBezTo>
                <a:cubicBezTo>
                  <a:pt x="22102" y="17537"/>
                  <a:pt x="22101" y="17622"/>
                  <a:pt x="22101" y="17686"/>
                </a:cubicBezTo>
                <a:cubicBezTo>
                  <a:pt x="22187" y="17672"/>
                  <a:pt x="22263" y="17636"/>
                  <a:pt x="22349" y="17686"/>
                </a:cubicBezTo>
                <a:cubicBezTo>
                  <a:pt x="22438" y="17738"/>
                  <a:pt x="22455" y="17865"/>
                  <a:pt x="22374" y="17934"/>
                </a:cubicBezTo>
                <a:cubicBezTo>
                  <a:pt x="22289" y="18006"/>
                  <a:pt x="22217" y="18001"/>
                  <a:pt x="22126" y="179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89640" y="3875040"/>
            <a:ext cx="1393560" cy="27000"/>
          </a:xfrm>
          <a:custGeom>
            <a:avLst/>
            <a:gdLst/>
            <a:ahLst/>
            <a:rect l="l" t="t" r="r" b="b"/>
            <a:pathLst>
              <a:path w="3870" h="76">
                <a:moveTo>
                  <a:pt x="12750" y="10765"/>
                </a:moveTo>
                <a:cubicBezTo>
                  <a:pt x="12809" y="10811"/>
                  <a:pt x="12897" y="10790"/>
                  <a:pt x="12973" y="10790"/>
                </a:cubicBezTo>
                <a:cubicBezTo>
                  <a:pt x="13070" y="10790"/>
                  <a:pt x="13150" y="10815"/>
                  <a:pt x="13246" y="10815"/>
                </a:cubicBezTo>
                <a:cubicBezTo>
                  <a:pt x="13297" y="10815"/>
                  <a:pt x="13339" y="10840"/>
                  <a:pt x="13395" y="10840"/>
                </a:cubicBezTo>
                <a:cubicBezTo>
                  <a:pt x="13463" y="10840"/>
                  <a:pt x="13489" y="10833"/>
                  <a:pt x="13543" y="10815"/>
                </a:cubicBezTo>
                <a:cubicBezTo>
                  <a:pt x="13551" y="10815"/>
                  <a:pt x="13560" y="10815"/>
                  <a:pt x="13568" y="10815"/>
                </a:cubicBezTo>
              </a:path>
              <a:path w="3870" h="76">
                <a:moveTo>
                  <a:pt x="14337" y="10840"/>
                </a:moveTo>
                <a:cubicBezTo>
                  <a:pt x="14413" y="10840"/>
                  <a:pt x="14467" y="10826"/>
                  <a:pt x="14536" y="10815"/>
                </a:cubicBezTo>
                <a:cubicBezTo>
                  <a:pt x="14799" y="10773"/>
                  <a:pt x="15124" y="10812"/>
                  <a:pt x="15379" y="10840"/>
                </a:cubicBezTo>
                <a:cubicBezTo>
                  <a:pt x="15452" y="10848"/>
                  <a:pt x="15489" y="10819"/>
                  <a:pt x="15553" y="10815"/>
                </a:cubicBezTo>
                <a:cubicBezTo>
                  <a:pt x="15727" y="10805"/>
                  <a:pt x="15913" y="10812"/>
                  <a:pt x="16073" y="10790"/>
                </a:cubicBezTo>
                <a:cubicBezTo>
                  <a:pt x="16177" y="10776"/>
                  <a:pt x="16275" y="10802"/>
                  <a:pt x="16371" y="10815"/>
                </a:cubicBezTo>
                <a:cubicBezTo>
                  <a:pt x="16446" y="10825"/>
                  <a:pt x="16502" y="10802"/>
                  <a:pt x="16570" y="10790"/>
                </a:cubicBezTo>
                <a:cubicBezTo>
                  <a:pt x="16594" y="10790"/>
                  <a:pt x="16603" y="10790"/>
                  <a:pt x="16619" y="107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688080" y="3911760"/>
            <a:ext cx="482760" cy="44280"/>
          </a:xfrm>
          <a:custGeom>
            <a:avLst/>
            <a:gdLst/>
            <a:ahLst/>
            <a:rect l="l" t="t" r="r" b="b"/>
            <a:pathLst>
              <a:path w="1340" h="125">
                <a:moveTo>
                  <a:pt x="18604" y="10914"/>
                </a:moveTo>
                <a:cubicBezTo>
                  <a:pt x="18533" y="10914"/>
                  <a:pt x="18728" y="10939"/>
                  <a:pt x="18728" y="10939"/>
                </a:cubicBezTo>
                <a:cubicBezTo>
                  <a:pt x="18999" y="10965"/>
                  <a:pt x="19281" y="10931"/>
                  <a:pt x="19546" y="10964"/>
                </a:cubicBezTo>
                <a:cubicBezTo>
                  <a:pt x="19666" y="10979"/>
                  <a:pt x="19786" y="10953"/>
                  <a:pt x="19893" y="10988"/>
                </a:cubicBezTo>
                <a:cubicBezTo>
                  <a:pt x="19933" y="11001"/>
                  <a:pt x="19863" y="10930"/>
                  <a:pt x="19819" y="10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510000" y="4670280"/>
            <a:ext cx="17280" cy="17640"/>
          </a:xfrm>
          <a:custGeom>
            <a:avLst/>
            <a:gdLst/>
            <a:ahLst/>
            <a:rect l="l" t="t" r="r" b="b"/>
            <a:pathLst>
              <a:path w="51" h="50">
                <a:moveTo>
                  <a:pt x="9748" y="12973"/>
                </a:moveTo>
                <a:cubicBezTo>
                  <a:pt x="9773" y="12998"/>
                  <a:pt x="9781" y="13006"/>
                  <a:pt x="9798" y="130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455840" y="5429160"/>
            <a:ext cx="206280" cy="152640"/>
          </a:xfrm>
          <a:custGeom>
            <a:avLst/>
            <a:gdLst/>
            <a:ahLst/>
            <a:rect l="l" t="t" r="r" b="b"/>
            <a:pathLst>
              <a:path w="572" h="423">
                <a:moveTo>
                  <a:pt x="4589" y="15081"/>
                </a:moveTo>
                <a:cubicBezTo>
                  <a:pt x="4514" y="15211"/>
                  <a:pt x="4424" y="15340"/>
                  <a:pt x="4366" y="15478"/>
                </a:cubicBezTo>
                <a:cubicBezTo>
                  <a:pt x="4366" y="15506"/>
                  <a:pt x="4364" y="15512"/>
                  <a:pt x="4341" y="15478"/>
                </a:cubicBezTo>
              </a:path>
              <a:path w="572" h="423">
                <a:moveTo>
                  <a:pt x="4043" y="15280"/>
                </a:moveTo>
                <a:cubicBezTo>
                  <a:pt x="4229" y="15228"/>
                  <a:pt x="4358" y="15171"/>
                  <a:pt x="4539" y="15280"/>
                </a:cubicBezTo>
                <a:cubicBezTo>
                  <a:pt x="4578" y="15318"/>
                  <a:pt x="4580" y="15335"/>
                  <a:pt x="4614" y="153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938240" y="5938920"/>
            <a:ext cx="6518520" cy="347760"/>
          </a:xfrm>
          <a:custGeom>
            <a:avLst/>
            <a:gdLst/>
            <a:ahLst/>
            <a:rect l="l" t="t" r="r" b="b"/>
            <a:pathLst>
              <a:path w="18108" h="968">
                <a:moveTo>
                  <a:pt x="5383" y="17462"/>
                </a:moveTo>
                <a:cubicBezTo>
                  <a:pt x="5447" y="17462"/>
                  <a:pt x="5489" y="17437"/>
                  <a:pt x="5556" y="17438"/>
                </a:cubicBezTo>
                <a:cubicBezTo>
                  <a:pt x="5730" y="17442"/>
                  <a:pt x="5901" y="17461"/>
                  <a:pt x="6077" y="17462"/>
                </a:cubicBezTo>
                <a:cubicBezTo>
                  <a:pt x="6726" y="17467"/>
                  <a:pt x="7348" y="17430"/>
                  <a:pt x="7987" y="17363"/>
                </a:cubicBezTo>
                <a:cubicBezTo>
                  <a:pt x="8127" y="17348"/>
                  <a:pt x="8269" y="17349"/>
                  <a:pt x="8409" y="17338"/>
                </a:cubicBezTo>
                <a:cubicBezTo>
                  <a:pt x="8616" y="17322"/>
                  <a:pt x="8822" y="17325"/>
                  <a:pt x="9029" y="17314"/>
                </a:cubicBezTo>
                <a:cubicBezTo>
                  <a:pt x="11098" y="17205"/>
                  <a:pt x="13183" y="17324"/>
                  <a:pt x="15255" y="17264"/>
                </a:cubicBezTo>
                <a:cubicBezTo>
                  <a:pt x="15659" y="17252"/>
                  <a:pt x="16066" y="17231"/>
                  <a:pt x="16470" y="17214"/>
                </a:cubicBezTo>
                <a:cubicBezTo>
                  <a:pt x="16875" y="17196"/>
                  <a:pt x="17281" y="17183"/>
                  <a:pt x="17686" y="17165"/>
                </a:cubicBezTo>
                <a:cubicBezTo>
                  <a:pt x="18223" y="17141"/>
                  <a:pt x="18762" y="17107"/>
                  <a:pt x="19298" y="17066"/>
                </a:cubicBezTo>
                <a:cubicBezTo>
                  <a:pt x="19870" y="17022"/>
                  <a:pt x="20439" y="16954"/>
                  <a:pt x="21010" y="16917"/>
                </a:cubicBezTo>
                <a:cubicBezTo>
                  <a:pt x="21390" y="16892"/>
                  <a:pt x="21771" y="16834"/>
                  <a:pt x="22151" y="16818"/>
                </a:cubicBezTo>
                <a:cubicBezTo>
                  <a:pt x="22343" y="16810"/>
                  <a:pt x="22530" y="16799"/>
                  <a:pt x="22721" y="16793"/>
                </a:cubicBezTo>
                <a:cubicBezTo>
                  <a:pt x="22979" y="16785"/>
                  <a:pt x="23233" y="16784"/>
                  <a:pt x="23490" y="16768"/>
                </a:cubicBezTo>
                <a:cubicBezTo>
                  <a:pt x="23412" y="16719"/>
                  <a:pt x="23265" y="16634"/>
                  <a:pt x="23168" y="16570"/>
                </a:cubicBezTo>
                <a:cubicBezTo>
                  <a:pt x="23135" y="16545"/>
                  <a:pt x="23101" y="16520"/>
                  <a:pt x="23068" y="16495"/>
                </a:cubicBezTo>
                <a:cubicBezTo>
                  <a:pt x="23126" y="16539"/>
                  <a:pt x="23131" y="16555"/>
                  <a:pt x="23192" y="16594"/>
                </a:cubicBezTo>
                <a:cubicBezTo>
                  <a:pt x="23273" y="16655"/>
                  <a:pt x="23286" y="16669"/>
                  <a:pt x="23341" y="16694"/>
                </a:cubicBezTo>
                <a:cubicBezTo>
                  <a:pt x="23264" y="16753"/>
                  <a:pt x="23160" y="16798"/>
                  <a:pt x="23093" y="16867"/>
                </a:cubicBezTo>
                <a:cubicBezTo>
                  <a:pt x="23093" y="16892"/>
                  <a:pt x="23093" y="16900"/>
                  <a:pt x="23093" y="169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59240" y="5491080"/>
            <a:ext cx="3162600" cy="393840"/>
          </a:xfrm>
          <a:custGeom>
            <a:avLst/>
            <a:gdLst/>
            <a:ahLst/>
            <a:rect l="l" t="t" r="r" b="b"/>
            <a:pathLst>
              <a:path w="8782" h="1092">
                <a:moveTo>
                  <a:pt x="14610" y="16346"/>
                </a:moveTo>
                <a:cubicBezTo>
                  <a:pt x="14613" y="16258"/>
                  <a:pt x="14586" y="16098"/>
                  <a:pt x="14635" y="16024"/>
                </a:cubicBezTo>
                <a:cubicBezTo>
                  <a:pt x="14753" y="15845"/>
                  <a:pt x="14883" y="15907"/>
                  <a:pt x="15056" y="15925"/>
                </a:cubicBezTo>
                <a:cubicBezTo>
                  <a:pt x="15336" y="15954"/>
                  <a:pt x="15592" y="15890"/>
                  <a:pt x="15875" y="15875"/>
                </a:cubicBezTo>
                <a:cubicBezTo>
                  <a:pt x="16116" y="15862"/>
                  <a:pt x="16355" y="15858"/>
                  <a:pt x="16594" y="15825"/>
                </a:cubicBezTo>
                <a:cubicBezTo>
                  <a:pt x="16816" y="15794"/>
                  <a:pt x="17040" y="15778"/>
                  <a:pt x="17264" y="15751"/>
                </a:cubicBezTo>
                <a:cubicBezTo>
                  <a:pt x="17578" y="15713"/>
                  <a:pt x="17892" y="15666"/>
                  <a:pt x="18207" y="15652"/>
                </a:cubicBezTo>
                <a:cubicBezTo>
                  <a:pt x="18488" y="15639"/>
                  <a:pt x="18769" y="15611"/>
                  <a:pt x="19050" y="15602"/>
                </a:cubicBezTo>
                <a:cubicBezTo>
                  <a:pt x="19466" y="15588"/>
                  <a:pt x="19874" y="15582"/>
                  <a:pt x="20290" y="15553"/>
                </a:cubicBezTo>
                <a:cubicBezTo>
                  <a:pt x="20739" y="15522"/>
                  <a:pt x="21183" y="15479"/>
                  <a:pt x="21630" y="15429"/>
                </a:cubicBezTo>
                <a:cubicBezTo>
                  <a:pt x="21985" y="15389"/>
                  <a:pt x="22339" y="15324"/>
                  <a:pt x="22696" y="15304"/>
                </a:cubicBezTo>
                <a:cubicBezTo>
                  <a:pt x="22856" y="15295"/>
                  <a:pt x="23009" y="15297"/>
                  <a:pt x="23168" y="15280"/>
                </a:cubicBezTo>
                <a:cubicBezTo>
                  <a:pt x="23260" y="15270"/>
                  <a:pt x="23250" y="15271"/>
                  <a:pt x="23341" y="15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bjective: Students will read, write and represent integers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xamples: Write each integer that represents the situ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) a $13 profi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) a 20 point decrea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) a gain of 9 yar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) a withdrawal of $15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.) a deposit of $1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.) the opposite of -4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.) 19 feet below sea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384720" y="2840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9401" y="7888"/>
                </a:moveTo>
                <a:lnTo>
                  <a:pt x="9401" y="788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71920" y="677880"/>
            <a:ext cx="1071360" cy="90360"/>
          </a:xfrm>
          <a:custGeom>
            <a:avLst/>
            <a:gdLst/>
            <a:ahLst/>
            <a:rect l="l" t="t" r="r" b="b"/>
            <a:pathLst>
              <a:path w="2977" h="249">
                <a:moveTo>
                  <a:pt x="9922" y="2133"/>
                </a:moveTo>
                <a:cubicBezTo>
                  <a:pt x="10109" y="2133"/>
                  <a:pt x="10283" y="2097"/>
                  <a:pt x="10468" y="2084"/>
                </a:cubicBezTo>
                <a:cubicBezTo>
                  <a:pt x="10641" y="2072"/>
                  <a:pt x="10818" y="2064"/>
                  <a:pt x="10988" y="2034"/>
                </a:cubicBezTo>
                <a:cubicBezTo>
                  <a:pt x="11129" y="2009"/>
                  <a:pt x="11269" y="1965"/>
                  <a:pt x="11410" y="1935"/>
                </a:cubicBezTo>
                <a:cubicBezTo>
                  <a:pt x="11547" y="1905"/>
                  <a:pt x="11692" y="1890"/>
                  <a:pt x="11832" y="1885"/>
                </a:cubicBezTo>
                <a:cubicBezTo>
                  <a:pt x="11946" y="1881"/>
                  <a:pt x="12049" y="1899"/>
                  <a:pt x="12154" y="1910"/>
                </a:cubicBezTo>
                <a:cubicBezTo>
                  <a:pt x="12372" y="1933"/>
                  <a:pt x="12705" y="1860"/>
                  <a:pt x="12874" y="1885"/>
                </a:cubicBezTo>
                <a:cubicBezTo>
                  <a:pt x="12934" y="1894"/>
                  <a:pt x="12869" y="1915"/>
                  <a:pt x="12898" y="18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80000" y="1160640"/>
            <a:ext cx="534960" cy="295200"/>
          </a:xfrm>
          <a:custGeom>
            <a:avLst/>
            <a:gdLst/>
            <a:ahLst/>
            <a:rect l="l" t="t" r="r" b="b"/>
            <a:pathLst>
              <a:path w="1489" h="819">
                <a:moveTo>
                  <a:pt x="13791" y="3398"/>
                </a:moveTo>
                <a:cubicBezTo>
                  <a:pt x="13852" y="3564"/>
                  <a:pt x="13886" y="3807"/>
                  <a:pt x="13866" y="3994"/>
                </a:cubicBezTo>
                <a:cubicBezTo>
                  <a:pt x="13842" y="4041"/>
                  <a:pt x="13834" y="4060"/>
                  <a:pt x="13841" y="3994"/>
                </a:cubicBezTo>
              </a:path>
              <a:path w="1489" h="819">
                <a:moveTo>
                  <a:pt x="14188" y="3324"/>
                </a:moveTo>
                <a:cubicBezTo>
                  <a:pt x="14268" y="3267"/>
                  <a:pt x="14438" y="3134"/>
                  <a:pt x="14461" y="3324"/>
                </a:cubicBezTo>
                <a:cubicBezTo>
                  <a:pt x="14470" y="3397"/>
                  <a:pt x="14300" y="3743"/>
                  <a:pt x="14263" y="3696"/>
                </a:cubicBezTo>
                <a:cubicBezTo>
                  <a:pt x="14263" y="3679"/>
                  <a:pt x="14263" y="3663"/>
                  <a:pt x="14263" y="3646"/>
                </a:cubicBezTo>
                <a:cubicBezTo>
                  <a:pt x="14408" y="3646"/>
                  <a:pt x="14616" y="3747"/>
                  <a:pt x="14412" y="3919"/>
                </a:cubicBezTo>
                <a:cubicBezTo>
                  <a:pt x="14324" y="3994"/>
                  <a:pt x="14159" y="4058"/>
                  <a:pt x="14089" y="3969"/>
                </a:cubicBezTo>
                <a:cubicBezTo>
                  <a:pt x="14066" y="3946"/>
                  <a:pt x="14055" y="3938"/>
                  <a:pt x="14089" y="3944"/>
                </a:cubicBezTo>
              </a:path>
              <a:path w="1489" h="819">
                <a:moveTo>
                  <a:pt x="13122" y="3423"/>
                </a:moveTo>
                <a:cubicBezTo>
                  <a:pt x="13122" y="3532"/>
                  <a:pt x="13141" y="3637"/>
                  <a:pt x="13146" y="3746"/>
                </a:cubicBezTo>
                <a:cubicBezTo>
                  <a:pt x="13146" y="3754"/>
                  <a:pt x="13146" y="3762"/>
                  <a:pt x="13146" y="3770"/>
                </a:cubicBezTo>
              </a:path>
              <a:path w="1489" h="819">
                <a:moveTo>
                  <a:pt x="12998" y="3621"/>
                </a:moveTo>
                <a:cubicBezTo>
                  <a:pt x="13100" y="3621"/>
                  <a:pt x="13222" y="3619"/>
                  <a:pt x="13320" y="3597"/>
                </a:cubicBezTo>
                <a:cubicBezTo>
                  <a:pt x="13361" y="3577"/>
                  <a:pt x="13367" y="3568"/>
                  <a:pt x="13395" y="35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67240" y="1751040"/>
            <a:ext cx="633600" cy="357120"/>
          </a:xfrm>
          <a:custGeom>
            <a:avLst/>
            <a:gdLst/>
            <a:ahLst/>
            <a:rect l="l" t="t" r="r" b="b"/>
            <a:pathLst>
              <a:path w="1762" h="993">
                <a:moveTo>
                  <a:pt x="14908" y="5308"/>
                </a:moveTo>
                <a:cubicBezTo>
                  <a:pt x="15000" y="5324"/>
                  <a:pt x="15108" y="5356"/>
                  <a:pt x="15205" y="5333"/>
                </a:cubicBezTo>
                <a:cubicBezTo>
                  <a:pt x="15213" y="5325"/>
                  <a:pt x="15222" y="5316"/>
                  <a:pt x="15230" y="5308"/>
                </a:cubicBezTo>
              </a:path>
              <a:path w="1762" h="993">
                <a:moveTo>
                  <a:pt x="15577" y="5159"/>
                </a:moveTo>
                <a:cubicBezTo>
                  <a:pt x="15642" y="5127"/>
                  <a:pt x="15683" y="5016"/>
                  <a:pt x="15751" y="4961"/>
                </a:cubicBezTo>
                <a:cubicBezTo>
                  <a:pt x="15822" y="4904"/>
                  <a:pt x="15872" y="4923"/>
                  <a:pt x="15949" y="4936"/>
                </a:cubicBezTo>
                <a:cubicBezTo>
                  <a:pt x="16005" y="5160"/>
                  <a:pt x="15895" y="5245"/>
                  <a:pt x="15776" y="5432"/>
                </a:cubicBezTo>
                <a:cubicBezTo>
                  <a:pt x="15693" y="5562"/>
                  <a:pt x="15608" y="5687"/>
                  <a:pt x="15553" y="5829"/>
                </a:cubicBezTo>
                <a:cubicBezTo>
                  <a:pt x="15553" y="5837"/>
                  <a:pt x="15553" y="5846"/>
                  <a:pt x="15553" y="5854"/>
                </a:cubicBezTo>
                <a:cubicBezTo>
                  <a:pt x="15588" y="5723"/>
                  <a:pt x="15653" y="5593"/>
                  <a:pt x="15801" y="5556"/>
                </a:cubicBezTo>
                <a:cubicBezTo>
                  <a:pt x="15899" y="5532"/>
                  <a:pt x="15923" y="5656"/>
                  <a:pt x="16024" y="5680"/>
                </a:cubicBezTo>
                <a:cubicBezTo>
                  <a:pt x="16122" y="5704"/>
                  <a:pt x="16174" y="5588"/>
                  <a:pt x="16222" y="5531"/>
                </a:cubicBezTo>
              </a:path>
              <a:path w="1762" h="993">
                <a:moveTo>
                  <a:pt x="16371" y="4961"/>
                </a:moveTo>
                <a:cubicBezTo>
                  <a:pt x="16347" y="5078"/>
                  <a:pt x="16295" y="5209"/>
                  <a:pt x="16297" y="5333"/>
                </a:cubicBezTo>
                <a:cubicBezTo>
                  <a:pt x="16319" y="5469"/>
                  <a:pt x="16321" y="5507"/>
                  <a:pt x="16371" y="5581"/>
                </a:cubicBezTo>
                <a:cubicBezTo>
                  <a:pt x="16546" y="5603"/>
                  <a:pt x="16652" y="5415"/>
                  <a:pt x="16669" y="5234"/>
                </a:cubicBezTo>
                <a:cubicBezTo>
                  <a:pt x="16681" y="5113"/>
                  <a:pt x="16565" y="4869"/>
                  <a:pt x="16421" y="4862"/>
                </a:cubicBezTo>
                <a:cubicBezTo>
                  <a:pt x="16404" y="4870"/>
                  <a:pt x="16388" y="4879"/>
                  <a:pt x="16371" y="48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84840" y="2330280"/>
            <a:ext cx="455400" cy="258840"/>
          </a:xfrm>
          <a:custGeom>
            <a:avLst/>
            <a:gdLst/>
            <a:ahLst/>
            <a:rect l="l" t="t" r="r" b="b"/>
            <a:pathLst>
              <a:path w="1266" h="720">
                <a:moveTo>
                  <a:pt x="13816" y="6524"/>
                </a:moveTo>
                <a:cubicBezTo>
                  <a:pt x="13832" y="6633"/>
                  <a:pt x="13867" y="6749"/>
                  <a:pt x="13891" y="6846"/>
                </a:cubicBezTo>
                <a:cubicBezTo>
                  <a:pt x="13891" y="6881"/>
                  <a:pt x="13886" y="6880"/>
                  <a:pt x="13866" y="6821"/>
                </a:cubicBezTo>
              </a:path>
              <a:path w="1266" h="720">
                <a:moveTo>
                  <a:pt x="13568" y="6648"/>
                </a:moveTo>
                <a:cubicBezTo>
                  <a:pt x="13758" y="6648"/>
                  <a:pt x="13956" y="6669"/>
                  <a:pt x="14139" y="6623"/>
                </a:cubicBezTo>
              </a:path>
              <a:path w="1266" h="720">
                <a:moveTo>
                  <a:pt x="14808" y="6672"/>
                </a:moveTo>
                <a:cubicBezTo>
                  <a:pt x="14787" y="6576"/>
                  <a:pt x="14714" y="6455"/>
                  <a:pt x="14585" y="6474"/>
                </a:cubicBezTo>
                <a:cubicBezTo>
                  <a:pt x="14392" y="6502"/>
                  <a:pt x="14433" y="6684"/>
                  <a:pt x="14486" y="6796"/>
                </a:cubicBezTo>
                <a:cubicBezTo>
                  <a:pt x="14633" y="6805"/>
                  <a:pt x="14730" y="6806"/>
                  <a:pt x="14808" y="6648"/>
                </a:cubicBezTo>
                <a:cubicBezTo>
                  <a:pt x="14808" y="6640"/>
                  <a:pt x="14808" y="6631"/>
                  <a:pt x="14808" y="6623"/>
                </a:cubicBezTo>
                <a:cubicBezTo>
                  <a:pt x="14808" y="6800"/>
                  <a:pt x="14818" y="6969"/>
                  <a:pt x="14833" y="7144"/>
                </a:cubicBezTo>
                <a:cubicBezTo>
                  <a:pt x="14833" y="7160"/>
                  <a:pt x="14833" y="7177"/>
                  <a:pt x="14833" y="71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589720" y="2840040"/>
            <a:ext cx="608040" cy="276120"/>
          </a:xfrm>
          <a:custGeom>
            <a:avLst/>
            <a:gdLst/>
            <a:ahLst/>
            <a:rect l="l" t="t" r="r" b="b"/>
            <a:pathLst>
              <a:path w="1687" h="770">
                <a:moveTo>
                  <a:pt x="15528" y="8334"/>
                </a:moveTo>
                <a:cubicBezTo>
                  <a:pt x="15669" y="8317"/>
                  <a:pt x="15806" y="8291"/>
                  <a:pt x="15949" y="8285"/>
                </a:cubicBezTo>
                <a:cubicBezTo>
                  <a:pt x="15957" y="8285"/>
                  <a:pt x="15966" y="8285"/>
                  <a:pt x="15974" y="8285"/>
                </a:cubicBezTo>
              </a:path>
              <a:path w="1687" h="770">
                <a:moveTo>
                  <a:pt x="16446" y="7987"/>
                </a:moveTo>
                <a:cubicBezTo>
                  <a:pt x="16455" y="8206"/>
                  <a:pt x="16491" y="8415"/>
                  <a:pt x="16520" y="8632"/>
                </a:cubicBezTo>
                <a:cubicBezTo>
                  <a:pt x="16520" y="8657"/>
                  <a:pt x="16520" y="8665"/>
                  <a:pt x="16520" y="8632"/>
                </a:cubicBezTo>
              </a:path>
              <a:path w="1687" h="770">
                <a:moveTo>
                  <a:pt x="17115" y="7888"/>
                </a:moveTo>
                <a:cubicBezTo>
                  <a:pt x="17033" y="7948"/>
                  <a:pt x="16857" y="7994"/>
                  <a:pt x="16818" y="8062"/>
                </a:cubicBezTo>
                <a:cubicBezTo>
                  <a:pt x="16773" y="8140"/>
                  <a:pt x="16818" y="8223"/>
                  <a:pt x="16818" y="8310"/>
                </a:cubicBezTo>
                <a:cubicBezTo>
                  <a:pt x="16937" y="8255"/>
                  <a:pt x="17035" y="8220"/>
                  <a:pt x="17165" y="8210"/>
                </a:cubicBezTo>
                <a:cubicBezTo>
                  <a:pt x="17222" y="8352"/>
                  <a:pt x="17219" y="8464"/>
                  <a:pt x="17066" y="8558"/>
                </a:cubicBezTo>
                <a:cubicBezTo>
                  <a:pt x="16985" y="8608"/>
                  <a:pt x="16893" y="8574"/>
                  <a:pt x="16842" y="85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106960" y="3517920"/>
            <a:ext cx="19080" cy="135000"/>
          </a:xfrm>
          <a:custGeom>
            <a:avLst/>
            <a:gdLst/>
            <a:ahLst/>
            <a:rect l="l" t="t" r="r" b="b"/>
            <a:pathLst>
              <a:path w="51" h="373">
                <a:moveTo>
                  <a:pt x="14188" y="9773"/>
                </a:moveTo>
                <a:cubicBezTo>
                  <a:pt x="14211" y="9885"/>
                  <a:pt x="14257" y="9998"/>
                  <a:pt x="14238" y="10120"/>
                </a:cubicBezTo>
                <a:cubicBezTo>
                  <a:pt x="14230" y="10128"/>
                  <a:pt x="14221" y="10137"/>
                  <a:pt x="14213" y="101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089680" y="3527280"/>
            <a:ext cx="482400" cy="250920"/>
          </a:xfrm>
          <a:custGeom>
            <a:avLst/>
            <a:gdLst/>
            <a:ahLst/>
            <a:rect l="l" t="t" r="r" b="b"/>
            <a:pathLst>
              <a:path w="1340" h="695">
                <a:moveTo>
                  <a:pt x="14833" y="9798"/>
                </a:moveTo>
                <a:cubicBezTo>
                  <a:pt x="14833" y="10026"/>
                  <a:pt x="14835" y="10245"/>
                  <a:pt x="14784" y="10468"/>
                </a:cubicBezTo>
                <a:cubicBezTo>
                  <a:pt x="14784" y="10460"/>
                  <a:pt x="14784" y="10451"/>
                  <a:pt x="14784" y="10443"/>
                </a:cubicBezTo>
              </a:path>
              <a:path w="1340" h="695">
                <a:moveTo>
                  <a:pt x="15156" y="9847"/>
                </a:moveTo>
                <a:cubicBezTo>
                  <a:pt x="15137" y="9999"/>
                  <a:pt x="15064" y="10192"/>
                  <a:pt x="15081" y="10344"/>
                </a:cubicBezTo>
                <a:cubicBezTo>
                  <a:pt x="15098" y="10385"/>
                  <a:pt x="15114" y="10427"/>
                  <a:pt x="15131" y="10468"/>
                </a:cubicBezTo>
                <a:cubicBezTo>
                  <a:pt x="15316" y="10481"/>
                  <a:pt x="15431" y="10369"/>
                  <a:pt x="15478" y="10170"/>
                </a:cubicBezTo>
                <a:cubicBezTo>
                  <a:pt x="15524" y="9975"/>
                  <a:pt x="15362" y="9847"/>
                  <a:pt x="15180" y="9847"/>
                </a:cubicBezTo>
                <a:cubicBezTo>
                  <a:pt x="15155" y="9855"/>
                  <a:pt x="15131" y="9864"/>
                  <a:pt x="15106" y="9872"/>
                </a:cubicBezTo>
              </a:path>
              <a:path w="1340" h="695">
                <a:moveTo>
                  <a:pt x="14139" y="9922"/>
                </a:moveTo>
                <a:cubicBezTo>
                  <a:pt x="14246" y="9902"/>
                  <a:pt x="14353" y="9872"/>
                  <a:pt x="14461" y="98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27800" y="4010040"/>
            <a:ext cx="401400" cy="276120"/>
          </a:xfrm>
          <a:custGeom>
            <a:avLst/>
            <a:gdLst/>
            <a:ahLst/>
            <a:rect l="l" t="t" r="r" b="b"/>
            <a:pathLst>
              <a:path w="1117" h="770">
                <a:moveTo>
                  <a:pt x="15429" y="11237"/>
                </a:moveTo>
                <a:cubicBezTo>
                  <a:pt x="15429" y="11380"/>
                  <a:pt x="15439" y="11465"/>
                  <a:pt x="15354" y="11584"/>
                </a:cubicBezTo>
                <a:cubicBezTo>
                  <a:pt x="15454" y="11433"/>
                  <a:pt x="15532" y="11432"/>
                  <a:pt x="15701" y="11509"/>
                </a:cubicBezTo>
                <a:cubicBezTo>
                  <a:pt x="15806" y="11557"/>
                  <a:pt x="15766" y="11610"/>
                  <a:pt x="15825" y="11534"/>
                </a:cubicBezTo>
              </a:path>
              <a:path w="1117" h="770">
                <a:moveTo>
                  <a:pt x="15925" y="11212"/>
                </a:moveTo>
                <a:cubicBezTo>
                  <a:pt x="15914" y="11340"/>
                  <a:pt x="15846" y="11872"/>
                  <a:pt x="15850" y="11881"/>
                </a:cubicBezTo>
              </a:path>
              <a:path w="1117" h="770">
                <a:moveTo>
                  <a:pt x="16396" y="11137"/>
                </a:moveTo>
                <a:cubicBezTo>
                  <a:pt x="16272" y="11239"/>
                  <a:pt x="16081" y="11350"/>
                  <a:pt x="16222" y="11534"/>
                </a:cubicBezTo>
                <a:cubicBezTo>
                  <a:pt x="16357" y="11710"/>
                  <a:pt x="16516" y="11738"/>
                  <a:pt x="16297" y="11906"/>
                </a:cubicBezTo>
                <a:cubicBezTo>
                  <a:pt x="16211" y="11720"/>
                  <a:pt x="16368" y="11532"/>
                  <a:pt x="16446" y="11336"/>
                </a:cubicBezTo>
                <a:cubicBezTo>
                  <a:pt x="16492" y="11220"/>
                  <a:pt x="16465" y="11293"/>
                  <a:pt x="16446" y="112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973840" y="4554360"/>
            <a:ext cx="536400" cy="347760"/>
          </a:xfrm>
          <a:custGeom>
            <a:avLst/>
            <a:gdLst/>
            <a:ahLst/>
            <a:rect l="l" t="t" r="r" b="b"/>
            <a:pathLst>
              <a:path w="1490" h="969">
                <a:moveTo>
                  <a:pt x="16594" y="13072"/>
                </a:moveTo>
                <a:cubicBezTo>
                  <a:pt x="16726" y="13072"/>
                  <a:pt x="16859" y="13072"/>
                  <a:pt x="16991" y="13072"/>
                </a:cubicBezTo>
              </a:path>
              <a:path w="1490" h="969">
                <a:moveTo>
                  <a:pt x="17314" y="12675"/>
                </a:moveTo>
                <a:cubicBezTo>
                  <a:pt x="17346" y="12914"/>
                  <a:pt x="17330" y="13192"/>
                  <a:pt x="17413" y="13419"/>
                </a:cubicBezTo>
                <a:cubicBezTo>
                  <a:pt x="17413" y="13403"/>
                  <a:pt x="17413" y="13386"/>
                  <a:pt x="17413" y="13370"/>
                </a:cubicBezTo>
              </a:path>
              <a:path w="1490" h="969">
                <a:moveTo>
                  <a:pt x="17983" y="12849"/>
                </a:moveTo>
                <a:cubicBezTo>
                  <a:pt x="18052" y="12781"/>
                  <a:pt x="18063" y="12681"/>
                  <a:pt x="17934" y="12650"/>
                </a:cubicBezTo>
                <a:cubicBezTo>
                  <a:pt x="17781" y="12613"/>
                  <a:pt x="17633" y="12894"/>
                  <a:pt x="17686" y="13022"/>
                </a:cubicBezTo>
                <a:cubicBezTo>
                  <a:pt x="17719" y="13047"/>
                  <a:pt x="17752" y="13072"/>
                  <a:pt x="17785" y="13097"/>
                </a:cubicBezTo>
                <a:cubicBezTo>
                  <a:pt x="17813" y="13080"/>
                  <a:pt x="18207" y="12870"/>
                  <a:pt x="18058" y="12799"/>
                </a:cubicBezTo>
                <a:cubicBezTo>
                  <a:pt x="18058" y="12807"/>
                  <a:pt x="18058" y="12816"/>
                  <a:pt x="18058" y="12824"/>
                </a:cubicBezTo>
                <a:cubicBezTo>
                  <a:pt x="18058" y="13087"/>
                  <a:pt x="18043" y="13333"/>
                  <a:pt x="18008" y="13593"/>
                </a:cubicBezTo>
                <a:cubicBezTo>
                  <a:pt x="18008" y="13621"/>
                  <a:pt x="18010" y="13627"/>
                  <a:pt x="18033" y="135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bjective: Students will read, write and represent integ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kill Practice: Write the integer that represents the situ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) 20°F below 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) 3 seconds before liftof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) no gain on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ow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) a growth of 2 inch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13200" y="1393920"/>
            <a:ext cx="785880" cy="463320"/>
          </a:xfrm>
          <a:custGeom>
            <a:avLst/>
            <a:gdLst/>
            <a:ahLst/>
            <a:rect l="l" t="t" r="r" b="b"/>
            <a:pathLst>
              <a:path w="2184" h="1290">
                <a:moveTo>
                  <a:pt x="13370" y="4366"/>
                </a:moveTo>
                <a:cubicBezTo>
                  <a:pt x="13473" y="4366"/>
                  <a:pt x="13565" y="4353"/>
                  <a:pt x="13667" y="4341"/>
                </a:cubicBezTo>
                <a:cubicBezTo>
                  <a:pt x="13692" y="4341"/>
                  <a:pt x="13700" y="4341"/>
                  <a:pt x="13717" y="4341"/>
                </a:cubicBezTo>
              </a:path>
              <a:path w="2184" h="1290">
                <a:moveTo>
                  <a:pt x="14486" y="4043"/>
                </a:moveTo>
                <a:cubicBezTo>
                  <a:pt x="14552" y="3945"/>
                  <a:pt x="14625" y="3853"/>
                  <a:pt x="14759" y="3870"/>
                </a:cubicBezTo>
                <a:cubicBezTo>
                  <a:pt x="14775" y="3878"/>
                  <a:pt x="14792" y="3886"/>
                  <a:pt x="14808" y="3894"/>
                </a:cubicBezTo>
                <a:cubicBezTo>
                  <a:pt x="14877" y="4156"/>
                  <a:pt x="14783" y="4292"/>
                  <a:pt x="14585" y="4490"/>
                </a:cubicBezTo>
                <a:cubicBezTo>
                  <a:pt x="14369" y="4706"/>
                  <a:pt x="14179" y="4907"/>
                  <a:pt x="14015" y="5159"/>
                </a:cubicBezTo>
                <a:cubicBezTo>
                  <a:pt x="14168" y="4979"/>
                  <a:pt x="14252" y="4876"/>
                  <a:pt x="14486" y="4837"/>
                </a:cubicBezTo>
                <a:cubicBezTo>
                  <a:pt x="14524" y="4936"/>
                  <a:pt x="14564" y="5127"/>
                  <a:pt x="14709" y="5110"/>
                </a:cubicBezTo>
                <a:cubicBezTo>
                  <a:pt x="14742" y="5093"/>
                  <a:pt x="14775" y="5077"/>
                  <a:pt x="14808" y="5060"/>
                </a:cubicBezTo>
              </a:path>
              <a:path w="2184" h="1290">
                <a:moveTo>
                  <a:pt x="15354" y="3994"/>
                </a:moveTo>
                <a:cubicBezTo>
                  <a:pt x="15231" y="4179"/>
                  <a:pt x="15141" y="4374"/>
                  <a:pt x="15081" y="4614"/>
                </a:cubicBezTo>
                <a:cubicBezTo>
                  <a:pt x="15018" y="4868"/>
                  <a:pt x="15031" y="4940"/>
                  <a:pt x="15131" y="5159"/>
                </a:cubicBezTo>
                <a:cubicBezTo>
                  <a:pt x="15394" y="5057"/>
                  <a:pt x="15472" y="4922"/>
                  <a:pt x="15528" y="4638"/>
                </a:cubicBezTo>
                <a:cubicBezTo>
                  <a:pt x="15574" y="4405"/>
                  <a:pt x="15554" y="4192"/>
                  <a:pt x="15379" y="4018"/>
                </a:cubicBezTo>
                <a:cubicBezTo>
                  <a:pt x="15352" y="3991"/>
                  <a:pt x="15342" y="4001"/>
                  <a:pt x="15304" y="39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670280" y="830160"/>
            <a:ext cx="1044720" cy="19080"/>
          </a:xfrm>
          <a:custGeom>
            <a:avLst/>
            <a:gdLst/>
            <a:ahLst/>
            <a:rect l="l" t="t" r="r" b="b"/>
            <a:pathLst>
              <a:path w="2903" h="50">
                <a:moveTo>
                  <a:pt x="12973" y="2307"/>
                </a:moveTo>
                <a:cubicBezTo>
                  <a:pt x="13048" y="2324"/>
                  <a:pt x="13104" y="2309"/>
                  <a:pt x="13196" y="2307"/>
                </a:cubicBezTo>
                <a:cubicBezTo>
                  <a:pt x="13447" y="2301"/>
                  <a:pt x="13692" y="2321"/>
                  <a:pt x="13940" y="2332"/>
                </a:cubicBezTo>
                <a:cubicBezTo>
                  <a:pt x="14157" y="2342"/>
                  <a:pt x="14371" y="2338"/>
                  <a:pt x="14585" y="2356"/>
                </a:cubicBezTo>
                <a:cubicBezTo>
                  <a:pt x="14928" y="2385"/>
                  <a:pt x="15287" y="2353"/>
                  <a:pt x="15627" y="2332"/>
                </a:cubicBezTo>
                <a:cubicBezTo>
                  <a:pt x="15709" y="2327"/>
                  <a:pt x="15793" y="2332"/>
                  <a:pt x="15875" y="23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599160" y="2536920"/>
            <a:ext cx="179640" cy="276120"/>
          </a:xfrm>
          <a:custGeom>
            <a:avLst/>
            <a:gdLst/>
            <a:ahLst/>
            <a:rect l="l" t="t" r="r" b="b"/>
            <a:pathLst>
              <a:path w="497" h="769">
                <a:moveTo>
                  <a:pt x="18380" y="7218"/>
                </a:moveTo>
                <a:cubicBezTo>
                  <a:pt x="18408" y="7176"/>
                  <a:pt x="18363" y="7198"/>
                  <a:pt x="18455" y="7144"/>
                </a:cubicBezTo>
                <a:cubicBezTo>
                  <a:pt x="18541" y="7093"/>
                  <a:pt x="18638" y="7017"/>
                  <a:pt x="18728" y="7069"/>
                </a:cubicBezTo>
                <a:cubicBezTo>
                  <a:pt x="18755" y="7254"/>
                  <a:pt x="18690" y="7299"/>
                  <a:pt x="18529" y="7392"/>
                </a:cubicBezTo>
                <a:cubicBezTo>
                  <a:pt x="18512" y="7400"/>
                  <a:pt x="18496" y="7409"/>
                  <a:pt x="18479" y="7417"/>
                </a:cubicBezTo>
                <a:cubicBezTo>
                  <a:pt x="18542" y="7396"/>
                  <a:pt x="18592" y="7336"/>
                  <a:pt x="18703" y="7367"/>
                </a:cubicBezTo>
                <a:cubicBezTo>
                  <a:pt x="18931" y="7430"/>
                  <a:pt x="18793" y="7659"/>
                  <a:pt x="18678" y="7739"/>
                </a:cubicBezTo>
                <a:cubicBezTo>
                  <a:pt x="18616" y="7782"/>
                  <a:pt x="18361" y="7901"/>
                  <a:pt x="18331" y="7764"/>
                </a:cubicBezTo>
                <a:cubicBezTo>
                  <a:pt x="18322" y="7725"/>
                  <a:pt x="18328" y="7723"/>
                  <a:pt x="18355" y="77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205680" y="3562200"/>
            <a:ext cx="268200" cy="260640"/>
          </a:xfrm>
          <a:custGeom>
            <a:avLst/>
            <a:gdLst/>
            <a:ahLst/>
            <a:rect l="l" t="t" r="r" b="b"/>
            <a:pathLst>
              <a:path w="745" h="720">
                <a:moveTo>
                  <a:pt x="17661" y="9922"/>
                </a:moveTo>
                <a:cubicBezTo>
                  <a:pt x="17613" y="9850"/>
                  <a:pt x="17466" y="9968"/>
                  <a:pt x="17413" y="10021"/>
                </a:cubicBezTo>
                <a:cubicBezTo>
                  <a:pt x="17329" y="10105"/>
                  <a:pt x="17235" y="10319"/>
                  <a:pt x="17239" y="10443"/>
                </a:cubicBezTo>
                <a:cubicBezTo>
                  <a:pt x="17242" y="10530"/>
                  <a:pt x="17335" y="10604"/>
                  <a:pt x="17413" y="10616"/>
                </a:cubicBezTo>
                <a:cubicBezTo>
                  <a:pt x="17557" y="10639"/>
                  <a:pt x="17717" y="10602"/>
                  <a:pt x="17835" y="10517"/>
                </a:cubicBezTo>
                <a:cubicBezTo>
                  <a:pt x="17923" y="10454"/>
                  <a:pt x="17978" y="10369"/>
                  <a:pt x="17983" y="10269"/>
                </a:cubicBezTo>
                <a:cubicBezTo>
                  <a:pt x="17985" y="10221"/>
                  <a:pt x="17990" y="10106"/>
                  <a:pt x="17959" y="10071"/>
                </a:cubicBezTo>
                <a:cubicBezTo>
                  <a:pt x="17943" y="10053"/>
                  <a:pt x="17844" y="9984"/>
                  <a:pt x="17810" y="9971"/>
                </a:cubicBezTo>
                <a:cubicBezTo>
                  <a:pt x="17781" y="9959"/>
                  <a:pt x="17722" y="9935"/>
                  <a:pt x="17686" y="9947"/>
                </a:cubicBezTo>
                <a:cubicBezTo>
                  <a:pt x="17669" y="9955"/>
                  <a:pt x="17653" y="9963"/>
                  <a:pt x="17636" y="99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29240" y="2608200"/>
            <a:ext cx="98640" cy="17640"/>
          </a:xfrm>
          <a:custGeom>
            <a:avLst/>
            <a:gdLst/>
            <a:ahLst/>
            <a:rect l="l" t="t" r="r" b="b"/>
            <a:pathLst>
              <a:path w="274" h="51">
                <a:moveTo>
                  <a:pt x="17859" y="7293"/>
                </a:moveTo>
                <a:cubicBezTo>
                  <a:pt x="17945" y="7283"/>
                  <a:pt x="18026" y="7261"/>
                  <a:pt x="18107" y="7243"/>
                </a:cubicBezTo>
                <a:cubicBezTo>
                  <a:pt x="18115" y="7243"/>
                  <a:pt x="18124" y="7243"/>
                  <a:pt x="18132" y="72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49920" y="4464000"/>
            <a:ext cx="430200" cy="438120"/>
          </a:xfrm>
          <a:custGeom>
            <a:avLst/>
            <a:gdLst/>
            <a:ahLst/>
            <a:rect l="l" t="t" r="r" b="b"/>
            <a:pathLst>
              <a:path w="1192" h="1217">
                <a:moveTo>
                  <a:pt x="16669" y="12700"/>
                </a:moveTo>
                <a:cubicBezTo>
                  <a:pt x="16689" y="12609"/>
                  <a:pt x="16712" y="12585"/>
                  <a:pt x="16793" y="12526"/>
                </a:cubicBezTo>
                <a:cubicBezTo>
                  <a:pt x="16863" y="12480"/>
                  <a:pt x="16883" y="12463"/>
                  <a:pt x="16942" y="12477"/>
                </a:cubicBezTo>
                <a:cubicBezTo>
                  <a:pt x="16997" y="12541"/>
                  <a:pt x="17044" y="12613"/>
                  <a:pt x="17016" y="12725"/>
                </a:cubicBezTo>
                <a:cubicBezTo>
                  <a:pt x="16969" y="12910"/>
                  <a:pt x="16778" y="12986"/>
                  <a:pt x="16669" y="13122"/>
                </a:cubicBezTo>
                <a:cubicBezTo>
                  <a:pt x="16559" y="13259"/>
                  <a:pt x="16454" y="13445"/>
                  <a:pt x="16421" y="13618"/>
                </a:cubicBezTo>
                <a:cubicBezTo>
                  <a:pt x="16429" y="13618"/>
                  <a:pt x="16438" y="13618"/>
                  <a:pt x="16446" y="13618"/>
                </a:cubicBezTo>
                <a:cubicBezTo>
                  <a:pt x="16491" y="13497"/>
                  <a:pt x="16538" y="13374"/>
                  <a:pt x="16669" y="13320"/>
                </a:cubicBezTo>
                <a:cubicBezTo>
                  <a:pt x="16753" y="13286"/>
                  <a:pt x="16821" y="13398"/>
                  <a:pt x="16867" y="13444"/>
                </a:cubicBezTo>
                <a:cubicBezTo>
                  <a:pt x="16974" y="13551"/>
                  <a:pt x="17091" y="13627"/>
                  <a:pt x="17165" y="13419"/>
                </a:cubicBezTo>
                <a:cubicBezTo>
                  <a:pt x="17165" y="13386"/>
                  <a:pt x="17165" y="13353"/>
                  <a:pt x="17165" y="13320"/>
                </a:cubicBezTo>
              </a:path>
              <a:path w="1192" h="1217">
                <a:moveTo>
                  <a:pt x="16197" y="12402"/>
                </a:moveTo>
                <a:cubicBezTo>
                  <a:pt x="16197" y="12518"/>
                  <a:pt x="16197" y="12634"/>
                  <a:pt x="16197" y="12750"/>
                </a:cubicBezTo>
              </a:path>
              <a:path w="1192" h="1217">
                <a:moveTo>
                  <a:pt x="15974" y="12551"/>
                </a:moveTo>
                <a:cubicBezTo>
                  <a:pt x="16093" y="12523"/>
                  <a:pt x="16198" y="12502"/>
                  <a:pt x="16321" y="12502"/>
                </a:cubicBezTo>
                <a:cubicBezTo>
                  <a:pt x="16329" y="12502"/>
                  <a:pt x="16338" y="12502"/>
                  <a:pt x="16346" y="125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391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Word Problem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1.) A scuba diver is 14 feet below sea level. A second scuba diver is 22 feet below sea level. Write an integer to represent the divers’ positions relative to sea level.  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2.) Which two opposite numbers are exactly 32 units apart from each other on the number line?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824400" y="49320"/>
            <a:ext cx="366300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bjective: Students will read, write and represent integ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152360" y="2608200"/>
            <a:ext cx="231840" cy="266760"/>
          </a:xfrm>
          <a:custGeom>
            <a:avLst/>
            <a:gdLst/>
            <a:ahLst/>
            <a:rect l="l" t="t" r="r" b="b"/>
            <a:pathLst>
              <a:path w="646" h="745">
                <a:moveTo>
                  <a:pt x="3200" y="7441"/>
                </a:moveTo>
                <a:cubicBezTo>
                  <a:pt x="3200" y="7399"/>
                  <a:pt x="3225" y="7769"/>
                  <a:pt x="3225" y="7789"/>
                </a:cubicBezTo>
                <a:cubicBezTo>
                  <a:pt x="3226" y="7871"/>
                  <a:pt x="3225" y="8020"/>
                  <a:pt x="3225" y="7938"/>
                </a:cubicBezTo>
              </a:path>
              <a:path w="646" h="745">
                <a:moveTo>
                  <a:pt x="3572" y="7293"/>
                </a:moveTo>
                <a:cubicBezTo>
                  <a:pt x="3513" y="7304"/>
                  <a:pt x="3470" y="7329"/>
                  <a:pt x="3423" y="7367"/>
                </a:cubicBezTo>
                <a:cubicBezTo>
                  <a:pt x="3470" y="7373"/>
                  <a:pt x="3577" y="7388"/>
                  <a:pt x="3572" y="7466"/>
                </a:cubicBezTo>
                <a:cubicBezTo>
                  <a:pt x="3568" y="7532"/>
                  <a:pt x="3467" y="7572"/>
                  <a:pt x="3448" y="7516"/>
                </a:cubicBezTo>
              </a:path>
              <a:path w="646" h="745">
                <a:moveTo>
                  <a:pt x="3696" y="7243"/>
                </a:moveTo>
                <a:cubicBezTo>
                  <a:pt x="3733" y="7347"/>
                  <a:pt x="3770" y="7430"/>
                  <a:pt x="3770" y="7541"/>
                </a:cubicBezTo>
              </a:path>
              <a:path w="646" h="745">
                <a:moveTo>
                  <a:pt x="3597" y="7441"/>
                </a:moveTo>
                <a:cubicBezTo>
                  <a:pt x="3674" y="7424"/>
                  <a:pt x="3740" y="7417"/>
                  <a:pt x="3820" y="7417"/>
                </a:cubicBezTo>
                <a:cubicBezTo>
                  <a:pt x="3828" y="7417"/>
                  <a:pt x="3837" y="7417"/>
                  <a:pt x="3845" y="74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03240" y="2768760"/>
            <a:ext cx="71640" cy="9360"/>
          </a:xfrm>
          <a:custGeom>
            <a:avLst/>
            <a:gdLst/>
            <a:ahLst/>
            <a:rect l="l" t="t" r="r" b="b"/>
            <a:pathLst>
              <a:path w="199" h="26">
                <a:moveTo>
                  <a:pt x="5035" y="7689"/>
                </a:moveTo>
                <a:cubicBezTo>
                  <a:pt x="4994" y="7689"/>
                  <a:pt x="5069" y="7689"/>
                  <a:pt x="5110" y="7689"/>
                </a:cubicBezTo>
                <a:cubicBezTo>
                  <a:pt x="5178" y="7689"/>
                  <a:pt x="5194" y="7670"/>
                  <a:pt x="5209" y="77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963800" y="2670120"/>
            <a:ext cx="198360" cy="268200"/>
          </a:xfrm>
          <a:custGeom>
            <a:avLst/>
            <a:gdLst/>
            <a:ahLst/>
            <a:rect l="l" t="t" r="r" b="b"/>
            <a:pathLst>
              <a:path w="547" h="745">
                <a:moveTo>
                  <a:pt x="5457" y="7516"/>
                </a:moveTo>
                <a:cubicBezTo>
                  <a:pt x="5548" y="7628"/>
                  <a:pt x="5495" y="7810"/>
                  <a:pt x="5482" y="7962"/>
                </a:cubicBezTo>
                <a:cubicBezTo>
                  <a:pt x="5482" y="7979"/>
                  <a:pt x="5482" y="7995"/>
                  <a:pt x="5482" y="8012"/>
                </a:cubicBezTo>
              </a:path>
              <a:path w="547" h="745">
                <a:moveTo>
                  <a:pt x="5705" y="7590"/>
                </a:moveTo>
                <a:cubicBezTo>
                  <a:pt x="5705" y="7640"/>
                  <a:pt x="5705" y="7689"/>
                  <a:pt x="5705" y="7739"/>
                </a:cubicBezTo>
                <a:cubicBezTo>
                  <a:pt x="5807" y="7729"/>
                  <a:pt x="5884" y="7695"/>
                  <a:pt x="5953" y="7764"/>
                </a:cubicBezTo>
                <a:cubicBezTo>
                  <a:pt x="5978" y="7789"/>
                  <a:pt x="5986" y="7797"/>
                  <a:pt x="6003" y="7764"/>
                </a:cubicBezTo>
              </a:path>
              <a:path w="547" h="745">
                <a:moveTo>
                  <a:pt x="5978" y="7417"/>
                </a:moveTo>
                <a:cubicBezTo>
                  <a:pt x="6012" y="7643"/>
                  <a:pt x="5983" y="7857"/>
                  <a:pt x="5978" y="8086"/>
                </a:cubicBezTo>
                <a:cubicBezTo>
                  <a:pt x="5978" y="8111"/>
                  <a:pt x="5978" y="8136"/>
                  <a:pt x="5978" y="81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40160" y="2598840"/>
            <a:ext cx="534960" cy="330120"/>
          </a:xfrm>
          <a:custGeom>
            <a:avLst/>
            <a:gdLst/>
            <a:ahLst/>
            <a:rect l="l" t="t" r="r" b="b"/>
            <a:pathLst>
              <a:path w="1489" h="919">
                <a:moveTo>
                  <a:pt x="12254" y="7491"/>
                </a:moveTo>
                <a:cubicBezTo>
                  <a:pt x="12389" y="7464"/>
                  <a:pt x="12441" y="7440"/>
                  <a:pt x="12551" y="7491"/>
                </a:cubicBezTo>
                <a:cubicBezTo>
                  <a:pt x="12473" y="7789"/>
                  <a:pt x="12296" y="7877"/>
                  <a:pt x="12080" y="8086"/>
                </a:cubicBezTo>
                <a:cubicBezTo>
                  <a:pt x="12072" y="8103"/>
                  <a:pt x="12063" y="8119"/>
                  <a:pt x="12055" y="8136"/>
                </a:cubicBezTo>
                <a:cubicBezTo>
                  <a:pt x="12192" y="8113"/>
                  <a:pt x="12372" y="8081"/>
                  <a:pt x="12502" y="8037"/>
                </a:cubicBezTo>
                <a:cubicBezTo>
                  <a:pt x="12510" y="8029"/>
                  <a:pt x="12518" y="8020"/>
                  <a:pt x="12526" y="8012"/>
                </a:cubicBezTo>
              </a:path>
              <a:path w="1489" h="919">
                <a:moveTo>
                  <a:pt x="12874" y="7392"/>
                </a:moveTo>
                <a:cubicBezTo>
                  <a:pt x="12874" y="7483"/>
                  <a:pt x="12874" y="7507"/>
                  <a:pt x="12874" y="7565"/>
                </a:cubicBezTo>
                <a:cubicBezTo>
                  <a:pt x="12844" y="7492"/>
                  <a:pt x="12890" y="7425"/>
                  <a:pt x="12948" y="7367"/>
                </a:cubicBezTo>
                <a:cubicBezTo>
                  <a:pt x="13075" y="7460"/>
                  <a:pt x="13072" y="7524"/>
                  <a:pt x="13072" y="7689"/>
                </a:cubicBezTo>
              </a:path>
              <a:path w="1489" h="919">
                <a:moveTo>
                  <a:pt x="13494" y="7466"/>
                </a:moveTo>
                <a:cubicBezTo>
                  <a:pt x="13401" y="7431"/>
                  <a:pt x="13324" y="7422"/>
                  <a:pt x="13295" y="7541"/>
                </a:cubicBezTo>
                <a:cubicBezTo>
                  <a:pt x="13295" y="7566"/>
                  <a:pt x="13295" y="7590"/>
                  <a:pt x="13295" y="7615"/>
                </a:cubicBezTo>
                <a:cubicBezTo>
                  <a:pt x="13507" y="7651"/>
                  <a:pt x="13498" y="7530"/>
                  <a:pt x="13543" y="7342"/>
                </a:cubicBezTo>
              </a:path>
              <a:path w="1489" h="919">
                <a:moveTo>
                  <a:pt x="13494" y="7218"/>
                </a:moveTo>
                <a:cubicBezTo>
                  <a:pt x="13502" y="7376"/>
                  <a:pt x="13519" y="7530"/>
                  <a:pt x="13519" y="76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76880" y="2795760"/>
            <a:ext cx="125280" cy="34920"/>
          </a:xfrm>
          <a:custGeom>
            <a:avLst/>
            <a:gdLst/>
            <a:ahLst/>
            <a:rect l="l" t="t" r="r" b="b"/>
            <a:pathLst>
              <a:path w="348" h="100">
                <a:moveTo>
                  <a:pt x="14660" y="7863"/>
                </a:moveTo>
                <a:cubicBezTo>
                  <a:pt x="14777" y="7829"/>
                  <a:pt x="14889" y="7794"/>
                  <a:pt x="15007" y="7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518080" y="2652840"/>
            <a:ext cx="438120" cy="268200"/>
          </a:xfrm>
          <a:custGeom>
            <a:avLst/>
            <a:gdLst/>
            <a:ahLst/>
            <a:rect l="l" t="t" r="r" b="b"/>
            <a:pathLst>
              <a:path w="1217" h="745">
                <a:moveTo>
                  <a:pt x="15404" y="7466"/>
                </a:moveTo>
                <a:cubicBezTo>
                  <a:pt x="15543" y="7423"/>
                  <a:pt x="15730" y="7403"/>
                  <a:pt x="15627" y="7640"/>
                </a:cubicBezTo>
                <a:cubicBezTo>
                  <a:pt x="15559" y="7797"/>
                  <a:pt x="15430" y="7947"/>
                  <a:pt x="15329" y="8086"/>
                </a:cubicBezTo>
                <a:cubicBezTo>
                  <a:pt x="15415" y="8101"/>
                  <a:pt x="15581" y="8006"/>
                  <a:pt x="15701" y="7987"/>
                </a:cubicBezTo>
                <a:cubicBezTo>
                  <a:pt x="15743" y="7987"/>
                  <a:pt x="15751" y="7987"/>
                  <a:pt x="15776" y="7987"/>
                </a:cubicBezTo>
              </a:path>
              <a:path w="1217" h="745">
                <a:moveTo>
                  <a:pt x="15925" y="7441"/>
                </a:moveTo>
                <a:cubicBezTo>
                  <a:pt x="16035" y="7419"/>
                  <a:pt x="16124" y="7334"/>
                  <a:pt x="16247" y="7367"/>
                </a:cubicBezTo>
                <a:cubicBezTo>
                  <a:pt x="16418" y="7413"/>
                  <a:pt x="16181" y="7800"/>
                  <a:pt x="16148" y="7863"/>
                </a:cubicBezTo>
                <a:cubicBezTo>
                  <a:pt x="16094" y="7953"/>
                  <a:pt x="16069" y="7954"/>
                  <a:pt x="16073" y="8012"/>
                </a:cubicBezTo>
                <a:cubicBezTo>
                  <a:pt x="16220" y="7975"/>
                  <a:pt x="16340" y="7944"/>
                  <a:pt x="16495" y="7938"/>
                </a:cubicBezTo>
                <a:cubicBezTo>
                  <a:pt x="16536" y="7936"/>
                  <a:pt x="16534" y="7929"/>
                  <a:pt x="16545" y="79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616200" y="4527720"/>
            <a:ext cx="2975040" cy="169560"/>
          </a:xfrm>
          <a:custGeom>
            <a:avLst/>
            <a:gdLst/>
            <a:ahLst/>
            <a:rect l="l" t="t" r="r" b="b"/>
            <a:pathLst>
              <a:path w="8261" h="472">
                <a:moveTo>
                  <a:pt x="10046" y="12576"/>
                </a:moveTo>
                <a:cubicBezTo>
                  <a:pt x="10142" y="12710"/>
                  <a:pt x="10155" y="12838"/>
                  <a:pt x="10170" y="12998"/>
                </a:cubicBezTo>
              </a:path>
              <a:path w="8261" h="472">
                <a:moveTo>
                  <a:pt x="13767" y="12650"/>
                </a:moveTo>
                <a:cubicBezTo>
                  <a:pt x="13864" y="12748"/>
                  <a:pt x="13858" y="12901"/>
                  <a:pt x="13866" y="13047"/>
                </a:cubicBezTo>
              </a:path>
              <a:path w="8261" h="472">
                <a:moveTo>
                  <a:pt x="18306" y="12725"/>
                </a:moveTo>
                <a:lnTo>
                  <a:pt x="18306" y="1272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32120" y="4491000"/>
            <a:ext cx="135000" cy="189000"/>
          </a:xfrm>
          <a:custGeom>
            <a:avLst/>
            <a:gdLst/>
            <a:ahLst/>
            <a:rect l="l" t="t" r="r" b="b"/>
            <a:pathLst>
              <a:path w="373" h="522">
                <a:moveTo>
                  <a:pt x="10368" y="12477"/>
                </a:moveTo>
                <a:cubicBezTo>
                  <a:pt x="10398" y="12595"/>
                  <a:pt x="10372" y="12828"/>
                  <a:pt x="10443" y="12923"/>
                </a:cubicBezTo>
                <a:cubicBezTo>
                  <a:pt x="10557" y="13076"/>
                  <a:pt x="10685" y="12918"/>
                  <a:pt x="10740" y="12824"/>
                </a:cubicBezTo>
                <a:cubicBezTo>
                  <a:pt x="10644" y="12824"/>
                  <a:pt x="10616" y="12888"/>
                  <a:pt x="10592" y="129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929120" y="4633920"/>
            <a:ext cx="125640" cy="1440"/>
          </a:xfrm>
          <a:custGeom>
            <a:avLst/>
            <a:gdLst/>
            <a:ahLst/>
            <a:rect l="l" t="t" r="r" b="b"/>
            <a:pathLst>
              <a:path w="348" h="1">
                <a:moveTo>
                  <a:pt x="13692" y="12874"/>
                </a:moveTo>
                <a:cubicBezTo>
                  <a:pt x="13808" y="12874"/>
                  <a:pt x="13923" y="12874"/>
                  <a:pt x="14039" y="12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749920" y="4446720"/>
            <a:ext cx="243000" cy="196560"/>
          </a:xfrm>
          <a:custGeom>
            <a:avLst/>
            <a:gdLst/>
            <a:ahLst/>
            <a:rect l="l" t="t" r="r" b="b"/>
            <a:pathLst>
              <a:path w="671" h="546">
                <a:moveTo>
                  <a:pt x="15974" y="12452"/>
                </a:moveTo>
                <a:cubicBezTo>
                  <a:pt x="15998" y="12606"/>
                  <a:pt x="16024" y="12739"/>
                  <a:pt x="16024" y="12898"/>
                </a:cubicBezTo>
                <a:cubicBezTo>
                  <a:pt x="16024" y="12845"/>
                  <a:pt x="16037" y="12811"/>
                  <a:pt x="16073" y="12774"/>
                </a:cubicBezTo>
              </a:path>
              <a:path w="671" h="546">
                <a:moveTo>
                  <a:pt x="16297" y="12353"/>
                </a:moveTo>
                <a:cubicBezTo>
                  <a:pt x="16310" y="12500"/>
                  <a:pt x="16287" y="12697"/>
                  <a:pt x="16371" y="12824"/>
                </a:cubicBezTo>
                <a:cubicBezTo>
                  <a:pt x="16460" y="12960"/>
                  <a:pt x="16664" y="12800"/>
                  <a:pt x="16644" y="12675"/>
                </a:cubicBezTo>
                <a:cubicBezTo>
                  <a:pt x="16627" y="12659"/>
                  <a:pt x="16611" y="12642"/>
                  <a:pt x="16594" y="12626"/>
                </a:cubicBezTo>
                <a:cubicBezTo>
                  <a:pt x="16499" y="12686"/>
                  <a:pt x="16495" y="12747"/>
                  <a:pt x="16495" y="12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518160" y="4500720"/>
            <a:ext cx="81000" cy="80640"/>
          </a:xfrm>
          <a:custGeom>
            <a:avLst/>
            <a:gdLst/>
            <a:ahLst/>
            <a:rect l="l" t="t" r="r" b="b"/>
            <a:pathLst>
              <a:path w="225" h="224">
                <a:moveTo>
                  <a:pt x="18157" y="12502"/>
                </a:moveTo>
                <a:cubicBezTo>
                  <a:pt x="18208" y="12514"/>
                  <a:pt x="18245" y="12526"/>
                  <a:pt x="18306" y="12526"/>
                </a:cubicBezTo>
                <a:cubicBezTo>
                  <a:pt x="18314" y="12526"/>
                  <a:pt x="18323" y="12526"/>
                  <a:pt x="18331" y="12526"/>
                </a:cubicBezTo>
              </a:path>
              <a:path w="225" h="224">
                <a:moveTo>
                  <a:pt x="18107" y="12725"/>
                </a:moveTo>
                <a:cubicBezTo>
                  <a:pt x="18207" y="12725"/>
                  <a:pt x="18240" y="12725"/>
                  <a:pt x="18306" y="127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85000" y="4384800"/>
            <a:ext cx="419040" cy="214200"/>
          </a:xfrm>
          <a:custGeom>
            <a:avLst/>
            <a:gdLst/>
            <a:ahLst/>
            <a:rect l="l" t="t" r="r" b="b"/>
            <a:pathLst>
              <a:path w="1167" h="596">
                <a:moveTo>
                  <a:pt x="19124" y="12303"/>
                </a:moveTo>
                <a:cubicBezTo>
                  <a:pt x="19183" y="12291"/>
                  <a:pt x="19356" y="12199"/>
                  <a:pt x="19397" y="12278"/>
                </a:cubicBezTo>
                <a:cubicBezTo>
                  <a:pt x="19433" y="12346"/>
                  <a:pt x="19260" y="12487"/>
                  <a:pt x="19224" y="12526"/>
                </a:cubicBezTo>
                <a:cubicBezTo>
                  <a:pt x="19216" y="12526"/>
                  <a:pt x="19207" y="12526"/>
                  <a:pt x="19199" y="12526"/>
                </a:cubicBezTo>
                <a:cubicBezTo>
                  <a:pt x="19271" y="12520"/>
                  <a:pt x="19585" y="12476"/>
                  <a:pt x="19472" y="12675"/>
                </a:cubicBezTo>
                <a:cubicBezTo>
                  <a:pt x="19400" y="12802"/>
                  <a:pt x="19283" y="12763"/>
                  <a:pt x="19199" y="12725"/>
                </a:cubicBezTo>
              </a:path>
              <a:path w="1167" h="596">
                <a:moveTo>
                  <a:pt x="19745" y="12179"/>
                </a:moveTo>
                <a:cubicBezTo>
                  <a:pt x="19862" y="12179"/>
                  <a:pt x="20077" y="12146"/>
                  <a:pt x="20067" y="12328"/>
                </a:cubicBezTo>
                <a:cubicBezTo>
                  <a:pt x="20061" y="12449"/>
                  <a:pt x="19935" y="12558"/>
                  <a:pt x="19869" y="12650"/>
                </a:cubicBezTo>
                <a:cubicBezTo>
                  <a:pt x="20001" y="12636"/>
                  <a:pt x="20162" y="12588"/>
                  <a:pt x="20290" y="12601"/>
                </a:cubicBezTo>
                <a:cubicBezTo>
                  <a:pt x="20290" y="12644"/>
                  <a:pt x="20273" y="12657"/>
                  <a:pt x="20216" y="126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581200" y="5348160"/>
            <a:ext cx="27000" cy="179640"/>
          </a:xfrm>
          <a:custGeom>
            <a:avLst/>
            <a:gdLst/>
            <a:ahLst/>
            <a:rect l="l" t="t" r="r" b="b"/>
            <a:pathLst>
              <a:path w="75" h="497">
                <a:moveTo>
                  <a:pt x="7169" y="14858"/>
                </a:moveTo>
                <a:cubicBezTo>
                  <a:pt x="7203" y="15023"/>
                  <a:pt x="7206" y="15197"/>
                  <a:pt x="7243" y="153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251080" y="4848120"/>
            <a:ext cx="5580000" cy="743040"/>
          </a:xfrm>
          <a:custGeom>
            <a:avLst/>
            <a:gdLst/>
            <a:ahLst/>
            <a:rect l="l" t="t" r="r" b="b"/>
            <a:pathLst>
              <a:path w="15504" h="2060">
                <a:moveTo>
                  <a:pt x="6375" y="13643"/>
                </a:moveTo>
                <a:cubicBezTo>
                  <a:pt x="6936" y="13802"/>
                  <a:pt x="7485" y="13896"/>
                  <a:pt x="8062" y="13990"/>
                </a:cubicBezTo>
                <a:cubicBezTo>
                  <a:pt x="8411" y="14047"/>
                  <a:pt x="8752" y="14058"/>
                  <a:pt x="9103" y="14089"/>
                </a:cubicBezTo>
                <a:cubicBezTo>
                  <a:pt x="9581" y="14132"/>
                  <a:pt x="10062" y="14114"/>
                  <a:pt x="10542" y="14114"/>
                </a:cubicBezTo>
                <a:cubicBezTo>
                  <a:pt x="10932" y="14114"/>
                  <a:pt x="11319" y="14135"/>
                  <a:pt x="11708" y="14139"/>
                </a:cubicBezTo>
                <a:cubicBezTo>
                  <a:pt x="12338" y="14145"/>
                  <a:pt x="12964" y="14182"/>
                  <a:pt x="13593" y="14188"/>
                </a:cubicBezTo>
                <a:cubicBezTo>
                  <a:pt x="14048" y="14192"/>
                  <a:pt x="14501" y="14213"/>
                  <a:pt x="14957" y="14213"/>
                </a:cubicBezTo>
                <a:cubicBezTo>
                  <a:pt x="15489" y="14213"/>
                  <a:pt x="16015" y="14250"/>
                  <a:pt x="16545" y="14288"/>
                </a:cubicBezTo>
                <a:cubicBezTo>
                  <a:pt x="17521" y="14359"/>
                  <a:pt x="18495" y="14398"/>
                  <a:pt x="19472" y="14436"/>
                </a:cubicBezTo>
                <a:cubicBezTo>
                  <a:pt x="19672" y="14444"/>
                  <a:pt x="21695" y="14575"/>
                  <a:pt x="21729" y="14436"/>
                </a:cubicBezTo>
                <a:cubicBezTo>
                  <a:pt x="21741" y="14385"/>
                  <a:pt x="21435" y="14269"/>
                  <a:pt x="21406" y="14238"/>
                </a:cubicBezTo>
                <a:cubicBezTo>
                  <a:pt x="21503" y="14306"/>
                  <a:pt x="21567" y="14237"/>
                  <a:pt x="21630" y="14337"/>
                </a:cubicBezTo>
                <a:cubicBezTo>
                  <a:pt x="21771" y="14560"/>
                  <a:pt x="21733" y="14209"/>
                  <a:pt x="21630" y="14511"/>
                </a:cubicBezTo>
                <a:cubicBezTo>
                  <a:pt x="21547" y="14593"/>
                  <a:pt x="21530" y="14610"/>
                  <a:pt x="21481" y="14660"/>
                </a:cubicBezTo>
              </a:path>
              <a:path w="15504" h="2060">
                <a:moveTo>
                  <a:pt x="13990" y="14015"/>
                </a:moveTo>
                <a:cubicBezTo>
                  <a:pt x="14045" y="14123"/>
                  <a:pt x="14035" y="14283"/>
                  <a:pt x="14039" y="14412"/>
                </a:cubicBezTo>
                <a:cubicBezTo>
                  <a:pt x="14039" y="14453"/>
                  <a:pt x="14039" y="14461"/>
                  <a:pt x="14039" y="14486"/>
                </a:cubicBezTo>
              </a:path>
              <a:path w="15504" h="2060">
                <a:moveTo>
                  <a:pt x="14015" y="14932"/>
                </a:moveTo>
                <a:cubicBezTo>
                  <a:pt x="13922" y="14955"/>
                  <a:pt x="13862" y="15103"/>
                  <a:pt x="13816" y="15180"/>
                </a:cubicBezTo>
                <a:cubicBezTo>
                  <a:pt x="13808" y="15197"/>
                  <a:pt x="13799" y="15213"/>
                  <a:pt x="13791" y="15230"/>
                </a:cubicBezTo>
                <a:cubicBezTo>
                  <a:pt x="13954" y="15269"/>
                  <a:pt x="13951" y="15265"/>
                  <a:pt x="14089" y="15156"/>
                </a:cubicBezTo>
                <a:cubicBezTo>
                  <a:pt x="14027" y="15011"/>
                  <a:pt x="13961" y="14985"/>
                  <a:pt x="13816" y="14908"/>
                </a:cubicBezTo>
              </a:path>
              <a:path w="15504" h="2060">
                <a:moveTo>
                  <a:pt x="6623" y="13469"/>
                </a:moveTo>
                <a:cubicBezTo>
                  <a:pt x="6516" y="13587"/>
                  <a:pt x="6422" y="13715"/>
                  <a:pt x="6276" y="13791"/>
                </a:cubicBezTo>
                <a:cubicBezTo>
                  <a:pt x="6268" y="13791"/>
                  <a:pt x="6259" y="13791"/>
                  <a:pt x="6251" y="13791"/>
                </a:cubicBezTo>
                <a:cubicBezTo>
                  <a:pt x="6272" y="13855"/>
                  <a:pt x="6431" y="13932"/>
                  <a:pt x="6499" y="13990"/>
                </a:cubicBezTo>
                <a:cubicBezTo>
                  <a:pt x="6544" y="14029"/>
                  <a:pt x="6561" y="14029"/>
                  <a:pt x="6573" y="14064"/>
                </a:cubicBezTo>
              </a:path>
              <a:path w="15504" h="2060">
                <a:moveTo>
                  <a:pt x="20910" y="14312"/>
                </a:moveTo>
                <a:cubicBezTo>
                  <a:pt x="20871" y="14235"/>
                  <a:pt x="20811" y="14575"/>
                  <a:pt x="20811" y="14610"/>
                </a:cubicBezTo>
                <a:cubicBezTo>
                  <a:pt x="20832" y="14692"/>
                  <a:pt x="20840" y="14708"/>
                  <a:pt x="20836" y="14759"/>
                </a:cubicBezTo>
              </a:path>
              <a:path w="15504" h="2060">
                <a:moveTo>
                  <a:pt x="20588" y="15131"/>
                </a:moveTo>
                <a:cubicBezTo>
                  <a:pt x="20575" y="15257"/>
                  <a:pt x="20546" y="15381"/>
                  <a:pt x="20513" y="15503"/>
                </a:cubicBezTo>
              </a:path>
              <a:path w="15504" h="2060">
                <a:moveTo>
                  <a:pt x="20786" y="15131"/>
                </a:moveTo>
                <a:cubicBezTo>
                  <a:pt x="20792" y="15265"/>
                  <a:pt x="20801" y="15373"/>
                  <a:pt x="20836" y="15503"/>
                </a:cubicBezTo>
                <a:cubicBezTo>
                  <a:pt x="21003" y="15516"/>
                  <a:pt x="21038" y="15458"/>
                  <a:pt x="21109" y="15304"/>
                </a:cubicBezTo>
                <a:cubicBezTo>
                  <a:pt x="20996" y="15342"/>
                  <a:pt x="20917" y="15404"/>
                  <a:pt x="20935" y="15528"/>
                </a:cubicBezTo>
              </a:path>
              <a:path w="15504" h="2060">
                <a:moveTo>
                  <a:pt x="7169" y="13568"/>
                </a:moveTo>
                <a:cubicBezTo>
                  <a:pt x="7143" y="13607"/>
                  <a:pt x="7192" y="13924"/>
                  <a:pt x="7193" y="14015"/>
                </a:cubicBezTo>
                <a:cubicBezTo>
                  <a:pt x="7193" y="14130"/>
                  <a:pt x="7193" y="14147"/>
                  <a:pt x="7193" y="14213"/>
                </a:cubicBezTo>
              </a:path>
              <a:path w="15504" h="2060">
                <a:moveTo>
                  <a:pt x="6697" y="15032"/>
                </a:moveTo>
                <a:cubicBezTo>
                  <a:pt x="6780" y="15032"/>
                  <a:pt x="6862" y="15032"/>
                  <a:pt x="6945" y="150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697120" y="5348160"/>
            <a:ext cx="115920" cy="189000"/>
          </a:xfrm>
          <a:custGeom>
            <a:avLst/>
            <a:gdLst/>
            <a:ahLst/>
            <a:rect l="l" t="t" r="r" b="b"/>
            <a:pathLst>
              <a:path w="323" h="522">
                <a:moveTo>
                  <a:pt x="7491" y="14858"/>
                </a:moveTo>
                <a:cubicBezTo>
                  <a:pt x="7520" y="14986"/>
                  <a:pt x="7509" y="15222"/>
                  <a:pt x="7615" y="15304"/>
                </a:cubicBezTo>
                <a:cubicBezTo>
                  <a:pt x="7640" y="15312"/>
                  <a:pt x="7664" y="15321"/>
                  <a:pt x="7689" y="15329"/>
                </a:cubicBezTo>
                <a:cubicBezTo>
                  <a:pt x="7780" y="15247"/>
                  <a:pt x="7794" y="15228"/>
                  <a:pt x="7813" y="15106"/>
                </a:cubicBezTo>
                <a:cubicBezTo>
                  <a:pt x="7673" y="15122"/>
                  <a:pt x="7615" y="15200"/>
                  <a:pt x="7615" y="15354"/>
                </a:cubicBezTo>
                <a:cubicBezTo>
                  <a:pt x="7623" y="15362"/>
                  <a:pt x="7632" y="15371"/>
                  <a:pt x="7640" y="153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599160" y="6072120"/>
            <a:ext cx="125640" cy="71640"/>
          </a:xfrm>
          <a:custGeom>
            <a:avLst/>
            <a:gdLst/>
            <a:ahLst/>
            <a:rect l="l" t="t" r="r" b="b"/>
            <a:pathLst>
              <a:path w="348" h="200">
                <a:moveTo>
                  <a:pt x="18331" y="16917"/>
                </a:moveTo>
                <a:cubicBezTo>
                  <a:pt x="18417" y="16895"/>
                  <a:pt x="18482" y="16871"/>
                  <a:pt x="18554" y="16892"/>
                </a:cubicBezTo>
              </a:path>
              <a:path w="348" h="200">
                <a:moveTo>
                  <a:pt x="18380" y="17066"/>
                </a:moveTo>
                <a:cubicBezTo>
                  <a:pt x="18482" y="17057"/>
                  <a:pt x="18578" y="17038"/>
                  <a:pt x="18678" y="170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07040" y="5956200"/>
            <a:ext cx="19080" cy="330480"/>
          </a:xfrm>
          <a:custGeom>
            <a:avLst/>
            <a:gdLst/>
            <a:ahLst/>
            <a:rect l="l" t="t" r="r" b="b"/>
            <a:pathLst>
              <a:path w="51" h="918">
                <a:moveTo>
                  <a:pt x="16966" y="16570"/>
                </a:moveTo>
                <a:cubicBezTo>
                  <a:pt x="16966" y="16437"/>
                  <a:pt x="16987" y="16784"/>
                  <a:pt x="16991" y="16917"/>
                </a:cubicBezTo>
                <a:cubicBezTo>
                  <a:pt x="16993" y="16962"/>
                  <a:pt x="16954" y="17477"/>
                  <a:pt x="17016" y="174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224760" y="5892840"/>
            <a:ext cx="276120" cy="366840"/>
          </a:xfrm>
          <a:custGeom>
            <a:avLst/>
            <a:gdLst/>
            <a:ahLst/>
            <a:rect l="l" t="t" r="r" b="b"/>
            <a:pathLst>
              <a:path w="770" h="1018">
                <a:moveTo>
                  <a:pt x="17289" y="16669"/>
                </a:moveTo>
                <a:cubicBezTo>
                  <a:pt x="17324" y="16784"/>
                  <a:pt x="17290" y="16962"/>
                  <a:pt x="17338" y="17066"/>
                </a:cubicBezTo>
                <a:cubicBezTo>
                  <a:pt x="17346" y="17058"/>
                  <a:pt x="17355" y="17049"/>
                  <a:pt x="17363" y="17041"/>
                </a:cubicBezTo>
              </a:path>
              <a:path w="770" h="1018">
                <a:moveTo>
                  <a:pt x="17487" y="16669"/>
                </a:moveTo>
                <a:cubicBezTo>
                  <a:pt x="17487" y="16778"/>
                  <a:pt x="17491" y="16911"/>
                  <a:pt x="17512" y="17016"/>
                </a:cubicBezTo>
                <a:cubicBezTo>
                  <a:pt x="17520" y="17033"/>
                  <a:pt x="17529" y="17049"/>
                  <a:pt x="17537" y="17066"/>
                </a:cubicBezTo>
                <a:cubicBezTo>
                  <a:pt x="17659" y="17090"/>
                  <a:pt x="17771" y="17063"/>
                  <a:pt x="17810" y="16917"/>
                </a:cubicBezTo>
                <a:cubicBezTo>
                  <a:pt x="17810" y="16884"/>
                  <a:pt x="17810" y="16851"/>
                  <a:pt x="17810" y="16818"/>
                </a:cubicBezTo>
                <a:cubicBezTo>
                  <a:pt x="17697" y="16818"/>
                  <a:pt x="17683" y="16882"/>
                  <a:pt x="17661" y="16991"/>
                </a:cubicBezTo>
                <a:cubicBezTo>
                  <a:pt x="17661" y="17033"/>
                  <a:pt x="17653" y="17049"/>
                  <a:pt x="17686" y="17041"/>
                </a:cubicBezTo>
              </a:path>
              <a:path w="770" h="1018">
                <a:moveTo>
                  <a:pt x="18033" y="16371"/>
                </a:moveTo>
                <a:cubicBezTo>
                  <a:pt x="18033" y="16694"/>
                  <a:pt x="18050" y="17019"/>
                  <a:pt x="18033" y="17338"/>
                </a:cubicBezTo>
                <a:cubicBezTo>
                  <a:pt x="18033" y="17355"/>
                  <a:pt x="18033" y="17371"/>
                  <a:pt x="18033" y="173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66000" y="6010200"/>
            <a:ext cx="17280" cy="223920"/>
          </a:xfrm>
          <a:custGeom>
            <a:avLst/>
            <a:gdLst/>
            <a:ahLst/>
            <a:rect l="l" t="t" r="r" b="b"/>
            <a:pathLst>
              <a:path w="50" h="621">
                <a:moveTo>
                  <a:pt x="19397" y="16694"/>
                </a:moveTo>
                <a:cubicBezTo>
                  <a:pt x="19387" y="16901"/>
                  <a:pt x="19379" y="17110"/>
                  <a:pt x="19348" y="173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072200" y="6010200"/>
            <a:ext cx="187560" cy="223920"/>
          </a:xfrm>
          <a:custGeom>
            <a:avLst/>
            <a:gdLst/>
            <a:ahLst/>
            <a:rect l="l" t="t" r="r" b="b"/>
            <a:pathLst>
              <a:path w="522" h="621">
                <a:moveTo>
                  <a:pt x="19670" y="16694"/>
                </a:moveTo>
                <a:cubicBezTo>
                  <a:pt x="19693" y="16829"/>
                  <a:pt x="19658" y="16929"/>
                  <a:pt x="19645" y="17066"/>
                </a:cubicBezTo>
                <a:cubicBezTo>
                  <a:pt x="19624" y="17276"/>
                  <a:pt x="19759" y="17332"/>
                  <a:pt x="19943" y="17289"/>
                </a:cubicBezTo>
                <a:cubicBezTo>
                  <a:pt x="20144" y="17242"/>
                  <a:pt x="20227" y="17087"/>
                  <a:pt x="20092" y="16966"/>
                </a:cubicBezTo>
                <a:cubicBezTo>
                  <a:pt x="19990" y="17021"/>
                  <a:pt x="19819" y="17117"/>
                  <a:pt x="19918" y="17264"/>
                </a:cubicBezTo>
                <a:cubicBezTo>
                  <a:pt x="19935" y="17272"/>
                  <a:pt x="19951" y="17281"/>
                  <a:pt x="19968" y="172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63840" y="6188040"/>
            <a:ext cx="885960" cy="19080"/>
          </a:xfrm>
          <a:custGeom>
            <a:avLst/>
            <a:gdLst/>
            <a:ahLst/>
            <a:rect l="l" t="t" r="r" b="b"/>
            <a:pathLst>
              <a:path w="2457" h="50">
                <a:moveTo>
                  <a:pt x="6846" y="17214"/>
                </a:moveTo>
                <a:cubicBezTo>
                  <a:pt x="6905" y="17208"/>
                  <a:pt x="6962" y="17198"/>
                  <a:pt x="7020" y="17190"/>
                </a:cubicBezTo>
              </a:path>
              <a:path w="2457" h="50">
                <a:moveTo>
                  <a:pt x="9203" y="17239"/>
                </a:moveTo>
                <a:cubicBezTo>
                  <a:pt x="9260" y="17220"/>
                  <a:pt x="9267" y="17211"/>
                  <a:pt x="9302" y="172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68360" y="6010200"/>
            <a:ext cx="61920" cy="374760"/>
          </a:xfrm>
          <a:custGeom>
            <a:avLst/>
            <a:gdLst/>
            <a:ahLst/>
            <a:rect l="l" t="t" r="r" b="b"/>
            <a:pathLst>
              <a:path w="175" h="1042">
                <a:moveTo>
                  <a:pt x="6300" y="16694"/>
                </a:moveTo>
                <a:cubicBezTo>
                  <a:pt x="6384" y="16959"/>
                  <a:pt x="6391" y="17212"/>
                  <a:pt x="6424" y="17487"/>
                </a:cubicBezTo>
                <a:cubicBezTo>
                  <a:pt x="6435" y="17576"/>
                  <a:pt x="6460" y="17651"/>
                  <a:pt x="6474" y="177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608200" y="6045120"/>
            <a:ext cx="54000" cy="233280"/>
          </a:xfrm>
          <a:custGeom>
            <a:avLst/>
            <a:gdLst/>
            <a:ahLst/>
            <a:rect l="l" t="t" r="r" b="b"/>
            <a:pathLst>
              <a:path w="150" h="646">
                <a:moveTo>
                  <a:pt x="7243" y="16793"/>
                </a:moveTo>
                <a:cubicBezTo>
                  <a:pt x="7327" y="17003"/>
                  <a:pt x="7359" y="17187"/>
                  <a:pt x="7367" y="17413"/>
                </a:cubicBezTo>
                <a:cubicBezTo>
                  <a:pt x="7367" y="17448"/>
                  <a:pt x="7372" y="17447"/>
                  <a:pt x="7392" y="173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51120" y="6027840"/>
            <a:ext cx="196920" cy="268200"/>
          </a:xfrm>
          <a:custGeom>
            <a:avLst/>
            <a:gdLst/>
            <a:ahLst/>
            <a:rect l="l" t="t" r="r" b="b"/>
            <a:pathLst>
              <a:path w="547" h="745">
                <a:moveTo>
                  <a:pt x="7640" y="16743"/>
                </a:moveTo>
                <a:cubicBezTo>
                  <a:pt x="7723" y="16941"/>
                  <a:pt x="7748" y="17128"/>
                  <a:pt x="7789" y="17338"/>
                </a:cubicBezTo>
                <a:cubicBezTo>
                  <a:pt x="7812" y="17456"/>
                  <a:pt x="7933" y="17578"/>
                  <a:pt x="8062" y="17462"/>
                </a:cubicBezTo>
                <a:cubicBezTo>
                  <a:pt x="8151" y="17382"/>
                  <a:pt x="8170" y="17260"/>
                  <a:pt x="8161" y="17165"/>
                </a:cubicBezTo>
                <a:cubicBezTo>
                  <a:pt x="8029" y="17136"/>
                  <a:pt x="7962" y="17211"/>
                  <a:pt x="7962" y="17363"/>
                </a:cubicBezTo>
                <a:cubicBezTo>
                  <a:pt x="7982" y="17424"/>
                  <a:pt x="7980" y="17439"/>
                  <a:pt x="8012" y="17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36960" y="5929200"/>
            <a:ext cx="61920" cy="420840"/>
          </a:xfrm>
          <a:custGeom>
            <a:avLst/>
            <a:gdLst/>
            <a:ahLst/>
            <a:rect l="l" t="t" r="r" b="b"/>
            <a:pathLst>
              <a:path w="174" h="1167">
                <a:moveTo>
                  <a:pt x="8434" y="16470"/>
                </a:moveTo>
                <a:cubicBezTo>
                  <a:pt x="8478" y="16801"/>
                  <a:pt x="8520" y="17133"/>
                  <a:pt x="8558" y="17462"/>
                </a:cubicBezTo>
                <a:cubicBezTo>
                  <a:pt x="8568" y="17551"/>
                  <a:pt x="8566" y="17582"/>
                  <a:pt x="8607" y="176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51160" y="6134040"/>
            <a:ext cx="98640" cy="9720"/>
          </a:xfrm>
          <a:custGeom>
            <a:avLst/>
            <a:gdLst/>
            <a:ahLst/>
            <a:rect l="l" t="t" r="r" b="b"/>
            <a:pathLst>
              <a:path w="274" h="26">
                <a:moveTo>
                  <a:pt x="9029" y="17041"/>
                </a:moveTo>
                <a:cubicBezTo>
                  <a:pt x="9116" y="17059"/>
                  <a:pt x="9183" y="17046"/>
                  <a:pt x="9277" y="17041"/>
                </a:cubicBezTo>
                <a:cubicBezTo>
                  <a:pt x="9285" y="17041"/>
                  <a:pt x="9294" y="17041"/>
                  <a:pt x="9302" y="170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633840" y="6027840"/>
            <a:ext cx="260280" cy="258840"/>
          </a:xfrm>
          <a:custGeom>
            <a:avLst/>
            <a:gdLst/>
            <a:ahLst/>
            <a:rect l="l" t="t" r="r" b="b"/>
            <a:pathLst>
              <a:path w="720" h="720">
                <a:moveTo>
                  <a:pt x="10120" y="16743"/>
                </a:moveTo>
                <a:cubicBezTo>
                  <a:pt x="10120" y="16926"/>
                  <a:pt x="10099" y="17106"/>
                  <a:pt x="10096" y="17289"/>
                </a:cubicBezTo>
                <a:cubicBezTo>
                  <a:pt x="10096" y="17380"/>
                  <a:pt x="10063" y="17421"/>
                  <a:pt x="10120" y="17413"/>
                </a:cubicBezTo>
              </a:path>
              <a:path w="720" h="720">
                <a:moveTo>
                  <a:pt x="10368" y="16793"/>
                </a:moveTo>
                <a:cubicBezTo>
                  <a:pt x="10368" y="16968"/>
                  <a:pt x="10299" y="17267"/>
                  <a:pt x="10418" y="17413"/>
                </a:cubicBezTo>
                <a:cubicBezTo>
                  <a:pt x="10558" y="17584"/>
                  <a:pt x="10798" y="17326"/>
                  <a:pt x="10815" y="17190"/>
                </a:cubicBezTo>
                <a:cubicBezTo>
                  <a:pt x="10807" y="17157"/>
                  <a:pt x="10798" y="17123"/>
                  <a:pt x="10790" y="17090"/>
                </a:cubicBezTo>
                <a:cubicBezTo>
                  <a:pt x="10716" y="17123"/>
                  <a:pt x="10566" y="17272"/>
                  <a:pt x="10641" y="17388"/>
                </a:cubicBezTo>
                <a:cubicBezTo>
                  <a:pt x="10658" y="17388"/>
                  <a:pt x="10674" y="17388"/>
                  <a:pt x="10691" y="173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mework: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ger Practice Workshe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7:59:31Z</dcterms:created>
  <dc:creator>ccps</dc:creator>
  <dc:description/>
  <dc:language>en-US</dc:language>
  <cp:lastModifiedBy>deanne elizabeth mcgrath</cp:lastModifiedBy>
  <dcterms:modified xsi:type="dcterms:W3CDTF">2011-12-05T17:57:27Z</dcterms:modified>
  <cp:revision>30</cp:revision>
  <dc:subject/>
  <dc:title>Chapter 2 Integer Operations</dc:title>
</cp:coreProperties>
</file>